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C24-F442-403D-98E0-F427DC7C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89F-12F3-4AF8-9861-FCC829DD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EEA-4B92-450C-8637-780F300C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979-DE43-489E-AE40-D3CC569F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D45-C4EB-4EF2-A30F-1888002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F42-940A-4A44-8FDE-C6C03E41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331-8173-4C82-83D1-633870C9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DA9-C52A-43D2-A470-5291E86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344-D880-4715-8B8E-68C571CD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5D6-E2C9-4BA4-991B-364B736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5EF-92D0-4974-943C-4C3D7F9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FA3-45C4-4BFF-A9C0-A099725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658-E473-40CD-8DEB-4E840E6F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абак и алкоголь– глобальные факторы риска заболева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99700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фективные меры по снижению распространенности курения: достижения, барьеры и пути их преод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ей Шаб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Ассоциация «Здоровые регио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НДАРТИЗОВАННЫЕ ПОКАЗАТЕЛИ СМЕРТНОСТИ НАСЕЛЕНИЯ ОТ ВСЕХ ПРИЧИН (ЦФО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число умерших на 100 000 нас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440000"/>
            <a:ext cx="89647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победить сверхсмерт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егация Тверской области во главе с председателем Законодательного Собрания Андрея Епишина посетила 4 июня Иван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новская область вплоть до недавнего времени занимала одно из последних мест среди регионов Центрального федерального округа по снижению уровня смертности от этих заболеваний. Ситуация стала меняться с запуском проекта «Здоровое сердце» в 2007 году. Было выделено более 200 млн. рублей на программу «Снижение смертности от сосудистых заболеваний в регионах РФ». Лечебные учреждения областного центра оснащены самым современным диагностическим и реабилитационным оборудованием. Это позволило за два года в полтора раза снизить смертность среди трудоспособного населения области от инсультов, на 30% снизилась летальность от инфар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ская область включена в число регионов, где будет реализована комплексная программа по обеспечению своевременной и качественной медицинской помощи при сосудистых заболеваниях. Сегодня правовая и организационная подготовка к программе практически завершена, намечены конкретные мероприятия, объемы финанс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эффективность российской системы здравоохранения повысится до эффективности британской, то продолжительность жизни российских мужчин вырастет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нщи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,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ndreev et al., 20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5364000" y="4508640"/>
            <a:ext cx="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364000" y="1916280"/>
            <a:ext cx="0" cy="252072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08720" y="4508640"/>
            <a:ext cx="142920" cy="28728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280"/>
              <a:gd name="textAreaBottom" fmla="*/ 2800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1773360"/>
            <a:ext cx="287280" cy="2665440"/>
          </a:xfrm>
          <a:custGeom>
            <a:avLst/>
            <a:gdLst>
              <a:gd name="textAreaLeft" fmla="*/ 0 w 287280"/>
              <a:gd name="textAreaRight" fmla="*/ 103680 w 287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360" y="45086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,7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285264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. кол-во умерших в Тверской области в 2008 г.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85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ричин, связанных с употреблением алкогол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ричин, связанных с курение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ТП ежегодно гибнет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 последнее время так часто обсуждают проблемы курения и потребления алког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клад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Злоупотребление алкоголем в Российской Федерации: социально-экономические последствия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иссия Общественной палаты по социальной и демографической политике совместно с Общественным советом Центрального федерального округ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.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ртей ежег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экономические потери России доходят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 700 млрд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умерших трудоспособного возраста находились в состоянии алкогольного опья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0% убийств и 40% случаев самоубийств совершаются в состоянии алкогольного опья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0% ДТП происходят с участием пьяных в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0% несовершеннолетних регулярно употребляют алко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% - ежедне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ионы России, в которых введены ограничения на торговлю крепким алкоголем в ноч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шкир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мык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ел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дарский кра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рган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нинград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дов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сков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жегород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ков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лин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юмен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ьянов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ябинская обла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аш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ороться с курен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ричин, связанных с курением в России ежегодно погиб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0.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Всемирная Организация Здравоохра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кет  стратегий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mpo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MPOW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3214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itor tobacc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ect people from tobacco sm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er help to quit tobacc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n about the dangers of toba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orce bans on tobacco advertising and 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se taxes on tobacco produc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360" y="1905120"/>
            <a:ext cx="4307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отребления таб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людей от табачного ды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помощи в целях прекращения употребления таб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преждение об опасностях, связанных с таба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запретов на рекламу, стимулирование продажи и спонсорство табачных издел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налогов на табачные изде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itor tobacco u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инг потребления таба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одическое получение данных о ключевых индикаторах потребления табака среди взрослых и подростков на национальной репрезентативной выборке и в различных популя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исследования не пров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1200" y="677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ect people from tobacco smok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людей от табачного ды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стью свободные от табачного дыма закрытые общественные помещения и рабочие места, включая бары и ресто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осс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урить можно везде – ФЗ «Об ограничении курения таба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er help to quit tobacco u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 помощи в целях прекращения употребления таб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азание помощи в прекращении курения на этапе первичной медико-санитарной помощ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горячих линий по отказу от ку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доступа пациентов к недорогой заместитель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осс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рачи первичного звена плохо ориентированы в подходах к заместительной терап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n about the dangers of tobacc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преждение об опасностях, связанных с табак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дение эффективных предупреждающих надписей на сигаретных пач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антитабачной рекл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антитабачных кампаний в 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осс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едупреждения –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1630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orce bans on tobacco advertising and promo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запретов на рекламу, стимулирование продажи и спонсорство табачных издел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эффективных законов, вводящих полный запрет на табачную рекламу, включая косвенную, стимулирование продажи табачных изделий и спонсо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реклама табака разрешена – ФЗ «О реклам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мографическая катастроф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рожд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смер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se taxes on tobacco produc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налогов на табачные издел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акцизов на табачные изделия темпами, превышающими инфляци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купательную способность потреб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мер по борьбе с нелегальной торговлей табачными издел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о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амые низкие в Европе акцизы на таб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ские просветительны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ственный Совет по проблеме подросткового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«Твой выб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программы по запрету продаж сигарет подрост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З «Технический регламент на табачную продукцию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речие п. 5.3. РК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речие п. 10 , 11 РК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речие закону «О техническом регулир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ожно сделать в Тверско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реально действующие ограничения на продажу спиртных напитков по времени (запрет торговли крепкими алкогольными напитками после 22 часов), по возрасту (до 18 лет) и по месту (не более одной торгующей алкоголем точки в городах на 1 кв. км. и не ближе километра от учебных заведений, в сельской местности не чаще, чем одна на 5 км доро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ть активность органов правопорядка в сфере нелегального производства, распространения и распития спиртных напитков на их подведомственн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бучение врачей первичного звена выявлению больных, чьи заболевания и травмы связаны со злоупотреблением алкоголем, и консультированию таких больных по снижению потреблении алког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ть специальное противоалкогольное и антитабачное образование в школах, технических учебных заведениях, институтах, проводить просвещение населения в региональных СМИ, показывать антиалкогольные ролики как социальную рекламу на региональных телекана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о сократить (до полного запрета) количество киосков, являющихся основным источником алкоголя и сигарет для подростков и все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 «зон, свободных от табачного дыма» - т.е. полный запрет на курение в школах, больницах, ВУЗах, в помещениях, занимаемых органами государственной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мографическая катастроф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вышение рожд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смер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мографическая катастроф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рожд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смер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мографическая катастроф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рожд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нижение смер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6320" y="73332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8:20:24Z</dcterms:created>
  <dc:creator>Alexey</dc:creator>
  <dc:description/>
  <dc:language>en-US</dc:language>
  <cp:lastModifiedBy>User</cp:lastModifiedBy>
  <dcterms:modified xsi:type="dcterms:W3CDTF">2009-06-23T07:57:28Z</dcterms:modified>
  <cp:revision>12</cp:revision>
  <dc:subject/>
  <dc:title>Табак и алкоголь– глобальные факторы риска заболеваний </dc:title>
</cp:coreProperties>
</file>