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9700-EE86-479A-988E-5875BE8B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2648-4C90-4F45-A690-D8E6ADD1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5DFF-B152-4605-B33F-30357A9C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82EF-AE99-42C1-97B1-709B0DBC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0FA9-647A-4B1A-966E-DF6AA476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34E5-8A82-4141-A4D1-FC355D0A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E1D6-D0CF-44B1-8C1E-2DB76CCE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5FC7-8479-490A-B2AA-81303E10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95C5-8028-45B9-8054-0507CE45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1F15-30C4-4947-8162-7D5009A1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DA8B-CFB5-492B-A586-367EAFA0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A062-2CEC-4723-92BD-2B2B8CA0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A405-99E6-448B-B072-E8BF905E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CB64-EE28-4397-B85D-F93EA481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73A6-DE97-4068-BFD3-7351C268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F7EB-DDAE-412A-BCF5-B4803A7D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CE77-5E0E-4F4A-811E-8228E1F6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339C-B2FF-4F00-9343-3CFF3B3D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1A36-3089-40D3-855E-35F52F30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AFC3-1909-4EF6-A0B2-1F282DEE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5138-DA06-4FC1-B3A6-4540212C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85A-9C05-4A89-B816-201B06A0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AD77-FD2E-4F16-9662-B8F45B63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B7FB-DD3B-4A3B-A104-E7CD5994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1DBA-F682-4F75-AC3F-128276A9A20E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516A-4857-4E69-9ECA-E8BC040A93FE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Эффективные кампании в СМИ по формированию здорового образа жиз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Елена Андреевна Корнышев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4 июня 2009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Почему мы обращаемся к СМИ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Ужасающая демографическая ситуац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евозможность справиться силами здравоохранения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Основы взаимодействия общественного здравоохранения и СМ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Либертарианская теор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веденческие, образовательные и социальные  подходы в укреплении здоровья: изменение поведения- это добровольный выбор потребител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емография сегодн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Широкая доступность СМ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очему взаимодействие СМИ и медиков пока не успешн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специальность «общественное здравоохранение» в России не разви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недопонимание роли СМИ лицами, принимающими решен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информация о здоровье не относится к «горячей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конфликт интересо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Позиция специалистов ОЗ по отношению к освещению в СМИ вопросов здоровь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Информация должна иметь доказательную баз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Согласованность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Управление конфликтом интересо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Оценка кампаний в С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спешность кампан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Часть единой стратег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стоянств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Характеристика посланий (содержание, креативность, учет потребител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Стратегия профилактики МЗСР (ноябрь, 2008)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: задача 4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обеспечение доступа населения к качественным информационным и образовательным материалами по профилактике, включая рекламу и пропаганду основ здорового образа жизни в СМИ и общественных местах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Стратегия профилактики МЗСР (ноябрь, 2008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.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в-пятых,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привлечь средства массовой информации (СМИ) для просвещения населения о причинах заболеваний, основных методах их профилактики, основах здорового образа жизни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обеспечить СМИ необходимыми материалами, выделить государственные ресурсы для поддержки соответствующих програм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Стратегия профилактики МЗСР (ноябрь, 2008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Использование СМИ для повышения уровня знаний населения важно, но мало эффективно, если только их используют для изменения поведения. Просвещение должно сопровождаться строгими политическими мерам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Успешным кампаниям просвещения через СМИ предшествуют научные разработки и детальный анализ различных аудиторий (социальный маркетинг)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Кампании СМИ по просвещению наиболее эффективны, когда они сопровождаются индивидуальной работой с населением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Необходимо создать экспертные советы по подготовке и предоставлению в СМИ научно-обоснованной информации по причинам, основным методам их профилактики, чтобы информация, предоставляемая населению через СМИ, имела научное обоснование и доказательную базу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7T03:52:04Z</dcterms:created>
  <dc:creator>EA</dc:creator>
  <dc:description/>
  <dc:language>en-US</dc:language>
  <cp:lastModifiedBy>EA</cp:lastModifiedBy>
  <dcterms:modified xsi:type="dcterms:W3CDTF">2009-06-24T03:56:17Z</dcterms:modified>
  <cp:revision>7</cp:revision>
  <dc:subject/>
  <dc:title>СМИ</dc:title>
</cp:coreProperties>
</file>