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69D-76AE-4A71-AB01-3190DF74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BAA-7E8C-4015-B135-B7F4A8F7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3EE-E320-4658-9EC5-E52A24FA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71E-B2A7-44D8-B1A5-01186730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82F-542D-4042-87EF-4F8A64D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25A-8F40-455C-8332-E830FD4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38A-E2B0-429B-947C-26038F11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2D4-C5BD-419E-AB94-09E0945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267-86E8-40DB-B6F0-8670C2B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F0D-3A12-4663-9BDA-03296D13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C27-73FA-4E04-8EC8-6B1C120F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C0E-5A67-4573-A494-11237F4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D31E-A3D9-4AB3-BC2E-29091234D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фективные методы борьбы с курени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Родионов А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Ассоциация «Здоровые регио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верская Школа общественного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ьба со сре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умной горо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ктивное выявление заболевших и потенциально зараженны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прет свободы перемеще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пирание дом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 по вывозу и захоронению трупов умерших от чум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граничение контактов между жителями внутри заражённой территор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лавная цель этих мероприятий – сделать среду несовместимой с распространением возбудител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большая, нарушающая права человека, кроме того, есть носители и бессимптомные случа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большая, нарушающая права человека, кроме того, есть носители и бессимптомные случа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большая, нарушающая права человека, кроме того, есть носители и бессимптомные случа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ольшая, в смысле общего санитарного благополучия, небольшая, в плане предотвращения эпидем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Есть, но она не останавливает эпидемию и не гарантирует индивидуальное незаражени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и жестком применении достаточно эффектив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бы мы могли бороться с кур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эффективн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по Вашему мнен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РЬБА С КУР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орьба с возбуди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буди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ачные проду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(технический регламент, контроль за содержанием никотина и смол, контроль за содержанием два-три-четыре-пять-фтор-хлор-цикло-пентан-бензил-застрелин) – обеспечение доступности именно наилучшего наиболее высококачественного возбудителя чу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(к сожалению пока невозможен) или ограничение производства и импорта табачных продуктов - карантин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ТТК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орьба с контрабанд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какая, хотя вроде бы какая-то е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ликолепная смерть от самой лучшей чумы (смешно, граждане!)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(табачники любя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табака, нет и курения, хотя карантин – мероприятие дорогое и не очень высоко эффективное (см. носители, бессимптомные случа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ьба с хозяин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озяи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рильщ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ирание дом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рет свободы перемещения (курен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делки и вр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(ничего не меняю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ть, но небольшая, нарушающая права человека, кроме того, можно договориться с надзирателем, есть бессимптомные случаи и носитель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рет свободы перемещения – есть, но нарушает  права человека, есть носительство (курю только спросив разрешения) и бессимптомные случаи ( курю, только в разрешенных места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т, если суждено выжить, то выживет (ничего не меняю, хотя около 3% все-таки отказываются от курен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ьба с аген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носчи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вестен (производители и распространители табак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роприятия (мало что меняю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вестн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уничтожен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изводителей и распространителей табака, жесточайшее ограничение свободы их деятельности)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(противодействие табачников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ет напрямую распространяться от зараженных курением людей, пепельниц, зажигалок, кинофильмов, телепереда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вестна (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высока в исследованиях с историческим контроле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– в странах, где ограничивают распространение табака, уменьшается распространенность курения и его последств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ьба со сре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урящее окружение (общество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ктивное выявление заболевших и потенциально зараженны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прет свободы перемещения (кур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пирание домов (запрет курить в общественных местах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 по вывозу и захоронению трупов умерших от чумы (источников заражения) – запрет рекламы табака в онкологических диспансерах и на кладбищ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граничение контактов между жителями внутри заражённой территории (запрет курения в общественных местах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лавная цель этих мероприятий – сделать среду несовместимой с табачными продуктами – ценовые меры (налоги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большая, нарушающая права человека, кроме того, есть носители и бессимптомные случа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большая, нарушающая права человека, кроме того, есть носители и бессимптомные случа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большая, нарушающая права человека, кроме того, есть носители и бессимптомные случа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ольшая, в смысле общего санитарного благополучия, небольшая, в плане предотвращения эпидем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Есть, но она не останавливает эпидемию и не гарантирует индивидуальное незаражени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чень эффективное мероприяти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м все же отличается чума от ку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озбудителя чумы никто не культивирует специально (за исключением случаев научного изучения и создания бактериологического оруж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нтересы возбудителя чумы никто не лоббируе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хочется верить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Разные подтипы чум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если они есть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никто не рекламиру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 возбудителю чумы не возникает наркотической зависим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наверно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 массовой смертности от чумы никто не наживае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по-видимому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отите узнать эффективные меры противодействия эпидемии табакокур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142884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те же, что и для противодействия чуме, плюс некоторые специфические особенности, характерные именно для особенностей продвижения табакоку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ьба с возбудителем – ограничение производства – мероприятие будущего, в настоящее время реализация его маловероят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ьба с хозяином – запрет курения в общественных мес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ьба с агентом – полный запрет прямой и косвенной табачной рекламы и спонсорства, всевозможные ограничения продаж (в ларьках, с лотков, поштучной продажи, запрет продажи табака несовершеннолетним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ьба со средой – ограничение рекламы и запрет курения в общественных местах, создание у курения социально неприемлемого имиджа, значительное повышение ц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ачная специф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ние отказа от культивирования таба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блачение случаев и попыток лоббирования табачной отраслью своих интере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ый запрет рекламы и спонсор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фициальное признание наркотического характера табачной зависимости и пагубных последствий употребления табака – судебное преследование отра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налогов – уменьшение доходов табач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ют ли про это табачники, и что они собираются дел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ют – рассекречены внутренние документы табачных компаний в США и Кана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ются миф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ются идеи социальной ответственности отрас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расль всячески стремится регулировать сама себя, в нужном отрасли направлении (ограничение никотина и смо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ются неэффективные якобы антитабачные мероприя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ются общественные организации, призывающие к терпимости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 эффективности мероприятий можно судить по силе противодействия отрас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чень своевременная кни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В.И. Ленин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, очень своевременная книжен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А.А. Родион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книг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ournal of Plaque Year…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by Daniel De F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ффективность мер по контролю табак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ффектив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ышение ц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рет курения в общественных мест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рет реклам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ебное преследов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уть менее эффектив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упреждения на пач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онные кампании, в том числе против действий индуст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эффекти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овательные программы в школ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ни здоровь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сяц отказа от кур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ты врача бросить курить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овые и налоговые 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надские табачные вой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акциз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ьшение распространенности ку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 эластичности для табачных изделий 0,4 – 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мление заменить повышение акцизов на дискуссии о специфической и адвалорной доле нало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рет курения в общественных мес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ьный удар по таб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действие по всему ми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Ф – Федеральный закон об ограничении курения табака №87ФЗ от 10 июля 2001 г. с дополнениями и поправ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не запрещает курение табака в общественных местах!!!!!!!!!!!!!!!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З РФ от 1 декабря 2004 г. №148-ФЗ «О внесении изменений в статьи 3 и 6 Федерального закона “Об ограничении курения табака”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рещено «…курение табака на рабочих местах, в городском и пригородном транспорте, на воздушном транспорте при продолжительности полета менее трех часов, в закрытых спортивных сооружениях, организациях здравоохранения, организациях культуры, на территориях и в помещениях образовательных организаций, в помещениях, занимаемых органами государственной власти…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за исключением  специально отведенных мест для курения табак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рет рекламы и спонсо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ен при полном запрете рекламы и спонсо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ьное противодействие таба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ается даже Формула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т скрытой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ый запрет неэффектив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Ф - Федеральный закон РФ от 13 марта 2006 г. N 38-ФЗ «О реклам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едеральный закон РФ от 13 марта 2006 г. N 38-ФЗ «О рекламе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 января 2007 г. запрещена наружная реклама таб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ен лишь ПОЛНЫЙ запрет рекламы табачных издел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упреждения на пач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 во многих стран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ервые в Кана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ны основы предупреждений они долж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лагаться на всех упаковках табач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ть не менее 50% от лицевой и обратной стороны па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легко читаемыми (текст – черным по белому и наоборо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ь цветные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безлич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01"/>
          <p:cNvPicPr/>
          <p:nvPr/>
        </p:nvPicPr>
        <p:blipFill>
          <a:blip r:embed="rId1"/>
          <a:stretch/>
        </p:blipFill>
        <p:spPr>
          <a:xfrm>
            <a:off x="247680" y="19080"/>
            <a:ext cx="8648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250920" y="260280"/>
            <a:ext cx="3790800" cy="626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03"/>
          <p:cNvPicPr/>
          <p:nvPr/>
        </p:nvPicPr>
        <p:blipFill>
          <a:blip r:embed="rId2"/>
          <a:stretch/>
        </p:blipFill>
        <p:spPr>
          <a:xfrm>
            <a:off x="4807080" y="333360"/>
            <a:ext cx="3989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4"/>
          <p:cNvPicPr/>
          <p:nvPr/>
        </p:nvPicPr>
        <p:blipFill>
          <a:blip r:embed="rId1"/>
          <a:stretch/>
        </p:blipFill>
        <p:spPr>
          <a:xfrm>
            <a:off x="395280" y="404640"/>
            <a:ext cx="3700440" cy="597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5"/>
          <p:cNvPicPr/>
          <p:nvPr/>
        </p:nvPicPr>
        <p:blipFill>
          <a:blip r:embed="rId2"/>
          <a:stretch/>
        </p:blipFill>
        <p:spPr>
          <a:xfrm>
            <a:off x="5148360" y="620640"/>
            <a:ext cx="35352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ение - эпидем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ь – хозяин – агент – ср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ь – никотин (табачные продук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зяин – куриль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гент (переносчик) – таба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а – курящее окружение (общест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6"/>
          <p:cNvPicPr/>
          <p:nvPr/>
        </p:nvPicPr>
        <p:blipFill>
          <a:blip r:embed="rId1"/>
          <a:stretch/>
        </p:blipFill>
        <p:spPr>
          <a:xfrm>
            <a:off x="324000" y="404640"/>
            <a:ext cx="3647880" cy="589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7"/>
          <p:cNvPicPr/>
          <p:nvPr/>
        </p:nvPicPr>
        <p:blipFill>
          <a:blip r:embed="rId2"/>
          <a:stretch/>
        </p:blipFill>
        <p:spPr>
          <a:xfrm>
            <a:off x="5003640" y="476280"/>
            <a:ext cx="37227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8"/>
          <p:cNvPicPr/>
          <p:nvPr/>
        </p:nvPicPr>
        <p:blipFill>
          <a:blip r:embed="rId1"/>
          <a:stretch/>
        </p:blipFill>
        <p:spPr>
          <a:xfrm>
            <a:off x="395280" y="333360"/>
            <a:ext cx="3890880" cy="619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9"/>
          <p:cNvPicPr/>
          <p:nvPr/>
        </p:nvPicPr>
        <p:blipFill>
          <a:blip r:embed="rId2"/>
          <a:stretch/>
        </p:blipFill>
        <p:spPr>
          <a:xfrm>
            <a:off x="4788000" y="333360"/>
            <a:ext cx="38178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0"/>
          <p:cNvPicPr/>
          <p:nvPr/>
        </p:nvPicPr>
        <p:blipFill>
          <a:blip r:embed="rId1"/>
          <a:stretch/>
        </p:blipFill>
        <p:spPr>
          <a:xfrm>
            <a:off x="468360" y="404640"/>
            <a:ext cx="3835440" cy="611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1"/>
          <p:cNvPicPr/>
          <p:nvPr/>
        </p:nvPicPr>
        <p:blipFill>
          <a:blip r:embed="rId2"/>
          <a:stretch/>
        </p:blipFill>
        <p:spPr>
          <a:xfrm>
            <a:off x="4859280" y="404640"/>
            <a:ext cx="3708360" cy="60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2"/>
          <p:cNvPicPr/>
          <p:nvPr/>
        </p:nvPicPr>
        <p:blipFill>
          <a:blip r:embed="rId1"/>
          <a:stretch/>
        </p:blipFill>
        <p:spPr>
          <a:xfrm>
            <a:off x="395280" y="404640"/>
            <a:ext cx="3905280" cy="612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4"/>
          <p:cNvPicPr/>
          <p:nvPr/>
        </p:nvPicPr>
        <p:blipFill>
          <a:blip r:embed="rId2"/>
          <a:stretch/>
        </p:blipFill>
        <p:spPr>
          <a:xfrm>
            <a:off x="4788000" y="404640"/>
            <a:ext cx="3849480" cy="623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20"/>
          <p:cNvPicPr/>
          <p:nvPr/>
        </p:nvPicPr>
        <p:blipFill>
          <a:blip r:embed="rId1"/>
          <a:stretch/>
        </p:blipFill>
        <p:spPr>
          <a:xfrm>
            <a:off x="334800" y="981000"/>
            <a:ext cx="4113360" cy="587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1"/>
          <p:cNvPicPr/>
          <p:nvPr/>
        </p:nvPicPr>
        <p:blipFill>
          <a:blip r:embed="rId2"/>
          <a:stretch/>
        </p:blipFill>
        <p:spPr>
          <a:xfrm>
            <a:off x="4737240" y="0"/>
            <a:ext cx="43164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9"/>
          <p:cNvPicPr/>
          <p:nvPr/>
        </p:nvPicPr>
        <p:blipFill>
          <a:blip r:embed="rId1"/>
          <a:stretch/>
        </p:blipFill>
        <p:spPr>
          <a:xfrm>
            <a:off x="463680" y="1268280"/>
            <a:ext cx="3833640" cy="558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0"/>
          <p:cNvPicPr/>
          <p:nvPr/>
        </p:nvPicPr>
        <p:blipFill>
          <a:blip r:embed="rId2"/>
          <a:stretch/>
        </p:blipFill>
        <p:spPr>
          <a:xfrm>
            <a:off x="4816440" y="0"/>
            <a:ext cx="42148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addiction.jpg"/>
          <p:cNvPicPr/>
          <p:nvPr/>
        </p:nvPicPr>
        <p:blipFill>
          <a:blip r:embed="rId1"/>
          <a:stretch/>
        </p:blipFill>
        <p:spPr>
          <a:xfrm>
            <a:off x="214200" y="17640"/>
            <a:ext cx="3786480" cy="6794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br1.jpg"/>
          <p:cNvPicPr/>
          <p:nvPr/>
        </p:nvPicPr>
        <p:blipFill>
          <a:blip r:embed="rId2"/>
          <a:stretch/>
        </p:blipFill>
        <p:spPr>
          <a:xfrm>
            <a:off x="4786200" y="177840"/>
            <a:ext cx="385776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br2.jpg"/>
          <p:cNvPicPr/>
          <p:nvPr/>
        </p:nvPicPr>
        <p:blipFill>
          <a:blip r:embed="rId1"/>
          <a:stretch/>
        </p:blipFill>
        <p:spPr>
          <a:xfrm>
            <a:off x="214200" y="95400"/>
            <a:ext cx="3929040" cy="6548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" descr="br3.jpg"/>
          <p:cNvPicPr/>
          <p:nvPr/>
        </p:nvPicPr>
        <p:blipFill>
          <a:blip r:embed="rId2"/>
          <a:stretch/>
        </p:blipFill>
        <p:spPr>
          <a:xfrm>
            <a:off x="4643280" y="76320"/>
            <a:ext cx="392940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br4.jpg"/>
          <p:cNvPicPr/>
          <p:nvPr/>
        </p:nvPicPr>
        <p:blipFill>
          <a:blip r:embed="rId1"/>
          <a:stretch/>
        </p:blipFill>
        <p:spPr>
          <a:xfrm>
            <a:off x="214200" y="57240"/>
            <a:ext cx="3907080" cy="6586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br5.jpg"/>
          <p:cNvPicPr/>
          <p:nvPr/>
        </p:nvPicPr>
        <p:blipFill>
          <a:blip r:embed="rId2"/>
          <a:stretch/>
        </p:blipFill>
        <p:spPr>
          <a:xfrm>
            <a:off x="4786200" y="95400"/>
            <a:ext cx="392904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br6.jpg"/>
          <p:cNvPicPr/>
          <p:nvPr/>
        </p:nvPicPr>
        <p:blipFill>
          <a:blip r:embed="rId1"/>
          <a:stretch/>
        </p:blipFill>
        <p:spPr>
          <a:xfrm>
            <a:off x="285840" y="57240"/>
            <a:ext cx="3990960" cy="6726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brasilia.jpg"/>
          <p:cNvPicPr/>
          <p:nvPr/>
        </p:nvPicPr>
        <p:blipFill>
          <a:blip r:embed="rId2"/>
          <a:stretch/>
        </p:blipFill>
        <p:spPr>
          <a:xfrm>
            <a:off x="4898880" y="81000"/>
            <a:ext cx="39592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РЬБА С ЧУ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kids.jpg"/>
          <p:cNvPicPr/>
          <p:nvPr/>
        </p:nvPicPr>
        <p:blipFill>
          <a:blip r:embed="rId1"/>
          <a:stretch/>
        </p:blipFill>
        <p:spPr>
          <a:xfrm>
            <a:off x="214200" y="130320"/>
            <a:ext cx="3733920" cy="6632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oral.jpg"/>
          <p:cNvPicPr/>
          <p:nvPr/>
        </p:nvPicPr>
        <p:blipFill>
          <a:blip r:embed="rId2"/>
          <a:stretch/>
        </p:blipFill>
        <p:spPr>
          <a:xfrm>
            <a:off x="4618080" y="144360"/>
            <a:ext cx="3740040" cy="66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ые кампании (антиреклама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2" descr="001.jpg"/>
          <p:cNvPicPr/>
          <p:nvPr/>
        </p:nvPicPr>
        <p:blipFill>
          <a:blip r:embed="rId1"/>
          <a:stretch/>
        </p:blipFill>
        <p:spPr>
          <a:xfrm>
            <a:off x="247680" y="1550880"/>
            <a:ext cx="69674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Antismoking.jpg"/>
          <p:cNvPicPr/>
          <p:nvPr/>
        </p:nvPicPr>
        <p:blipFill>
          <a:blip r:embed="rId1"/>
          <a:stretch/>
        </p:blipFill>
        <p:spPr>
          <a:xfrm>
            <a:off x="158760" y="928800"/>
            <a:ext cx="85564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holl1.jpg"/>
          <p:cNvPicPr/>
          <p:nvPr/>
        </p:nvPicPr>
        <p:blipFill>
          <a:blip r:embed="rId1"/>
          <a:stretch/>
        </p:blipFill>
        <p:spPr>
          <a:xfrm>
            <a:off x="2286000" y="88920"/>
            <a:ext cx="4572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oll2.jpg"/>
          <p:cNvPicPr/>
          <p:nvPr/>
        </p:nvPicPr>
        <p:blipFill>
          <a:blip r:embed="rId1"/>
          <a:stretch/>
        </p:blipFill>
        <p:spPr>
          <a:xfrm>
            <a:off x="2495520" y="507960"/>
            <a:ext cx="415296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holl3.jpg"/>
          <p:cNvPicPr/>
          <p:nvPr/>
        </p:nvPicPr>
        <p:blipFill>
          <a:blip r:embed="rId1"/>
          <a:stretch/>
        </p:blipFill>
        <p:spPr>
          <a:xfrm>
            <a:off x="2357280" y="181080"/>
            <a:ext cx="44294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rothmans.jpg"/>
          <p:cNvPicPr/>
          <p:nvPr/>
        </p:nvPicPr>
        <p:blipFill>
          <a:blip r:embed="rId1"/>
          <a:stretch/>
        </p:blipFill>
        <p:spPr>
          <a:xfrm>
            <a:off x="2228760" y="285840"/>
            <a:ext cx="4686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sqt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v_tonel_1.jpg"/>
          <p:cNvPicPr/>
          <p:nvPr/>
        </p:nvPicPr>
        <p:blipFill>
          <a:blip r:embed="rId1"/>
          <a:stretch/>
        </p:blipFill>
        <p:spPr>
          <a:xfrm>
            <a:off x="65160" y="620640"/>
            <a:ext cx="893592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welcome.jpg"/>
          <p:cNvPicPr/>
          <p:nvPr/>
        </p:nvPicPr>
        <p:blipFill>
          <a:blip r:embed="rId1"/>
          <a:stretch/>
        </p:blipFill>
        <p:spPr>
          <a:xfrm>
            <a:off x="214200" y="378000"/>
            <a:ext cx="878688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мер – чума (Эпидемия 16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гг. в Лондон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зяин – заражённый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гент (переносчик) – блоха, паразитирующая на крысах, может передаваться напрямую от заражённого человека (животного), через обсемененные вещи (продукты)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а – чумной город (страна)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тивочумные мероприятия (Лондонская чума 16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гг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рьба с возбудите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рьба с хозя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рьба с агентом (переносчик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рьба со средой (окружение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ьба с возбуди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жья ка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какая, хотя вроде бы какая-то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ьба с хозяин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озяи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раженный человек (животно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ирание дом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рет свободы перемещ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делки и вр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ть, но небольшая, нарушающая права человека, кроме того, можно договориться с надзирателем, есть бессимптомные случаи и носитель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прет свободы перемещения – есть, но нарушает  права человека, есть носительство и бессимптомные случа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т, если суждено выжить, то выжив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орьба с аген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нос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извест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известн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ничтожение крыс и других грызун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известна (высока в исследованиях с историческим контрол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5:21:59Z</dcterms:created>
  <dc:creator>Andrew</dc:creator>
  <dc:description/>
  <dc:language>en-US</dc:language>
  <cp:lastModifiedBy>EA</cp:lastModifiedBy>
  <dcterms:modified xsi:type="dcterms:W3CDTF">2009-06-29T06:24:25Z</dcterms:modified>
  <cp:revision>21</cp:revision>
  <dc:subject/>
  <dc:title>Слайд 1</dc:title>
</cp:coreProperties>
</file>