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9.wmf" ContentType="image/x-wmf"/>
  <Override PartName="/ppt/media/image18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2F4F-CA10-410C-802F-54CEDBA6B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212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19B5-F4F4-48D9-A0AD-EC7AB4623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212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5398-9BA1-455E-85CC-B09E8DCAE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по скорости развития рынок продуктовой розницы в ми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B4C-62D7-4E0E-9C5F-DBD94BAD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0B0-1C06-4E08-9FDE-8F3D5C73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90B-4D15-45AB-BC84-F2B4D858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33D-8D9D-4B31-8EF7-B093D5F6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F2A-6EBD-4814-A892-51FC7181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0F5-4CAF-4F79-BA81-04314002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6F7-06C6-479A-822F-C591FBB6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504-9C58-44CA-B256-7D04C444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35E-5095-4A26-B859-C37F69EF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7C5-4321-4CF8-9234-BF5EB8B8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E33-FDCA-4FFE-B3C6-9C183C7A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247-CE06-4A5B-BC69-9B32FD4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17C6-38E1-44E4-8D11-3BE003D74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1989000"/>
            <a:ext cx="64008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Маркетинг и продуктов питания для детей"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митрий Я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июля 20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23065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ство по защите грудного вскармливания 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Международный свод правил маркетинга заменителей грудного молока 1981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270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193 стран – 72% приняли нормативные акты по выполнению Международного свода правил маркетинга заменителей грудного молока ВОЗ 198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ИБФАН 2006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ект № 284073-4                                                                            во втором чтени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ФЕДЕРАЛЬНЫЙ ЗАКОН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Технический регламент на сок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оковую продукцию из фруктов и овощ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начальная верс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ья 4, п.13. Соковая продукция для детского питания – соки, нектары, сокосодержащие напитки и морсы, </a:t>
            </a:r>
            <a:r>
              <a:rPr b="1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предназначенные для питания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детей раннего возраста (от рождения до 3 лет</a:t>
            </a:r>
            <a:r>
              <a:rPr b="1" lang="ru-RU" sz="2400" spc="-1" strike="noStrike" u="sng">
                <a:solidFill>
                  <a:srgbClr val="99cc00"/>
                </a:solidFill>
                <a:uFillTx/>
                <a:latin typeface="Arial"/>
              </a:rPr>
              <a:t>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ошкольного возраста (от 3 до 6 лет) и школьного возраста (от 6 до 14 лет) и отвечающие физиологическим потребностям детского организма соответствующих возрастных групп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ект ФЕДЕРАЛЬНЫЙ ЗАКОН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Технический регламент на молоко и продукты его перерабо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ья 11, п.7. Под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ледующей смес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нимаются продукты детского питания для детей первого года жизни, изготовленные на основе  молока  сельскохозяйственных животных, белков сои, за исключением белков, полученных из сырья, содержащего генно-модифицированные организмы, и адаптированные или частично адаптированные для питания </a:t>
            </a:r>
            <a:r>
              <a:rPr b="1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детей в возрасте старше 5 месяцев (изменили на 6 месяц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и рекламируемых продуктов питания для детей – много продуктов с высоким содержанием сахара, соли, жира –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.н. «нездоровая пища» или «мусорная е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о влиянию телерекламы на пищевые предпочтения и поведение дете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FC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нция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89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екламируемых продуктов питания для детей содержат много жира, сахара,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60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етей ежедневно смотрят после школы телеви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7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етей предпочитают завтраки, рекламируемые по 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84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одителей покупают детям такие завтраки по их прось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1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одителей согласны с влиянием рекламы на пищевые предпочтени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из 3 детей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ет повышенный вес или страдает ожи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205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ду эти показатели достигнут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0%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девоче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55%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для мальч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опросов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2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рослы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телей Великобритани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феврал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83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гласились, что безответственный маркетинг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дорового питания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рудняет приучать детей к здоровой п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84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гласились, что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о должно больше контролировать маркетинг нездорового питания для дете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84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гласились, что необходима защита от рекламы нездорового питания не только по ТВ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и через другие каналы продвижения –Интернет, упаковка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35040" y="2118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55640" y="404640"/>
          <a:ext cx="7705800" cy="4653000"/>
        </p:xfrm>
        <a:graphic>
          <a:graphicData uri="http://schemas.openxmlformats.org/drawingml/2006/table">
            <a:tbl>
              <a:tblPr/>
              <a:tblGrid>
                <a:gridCol w="2230560"/>
                <a:gridCol w="3530520"/>
                <a:gridCol w="194472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«Детского обеда» 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етическа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a-cola 20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овый сок 200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 фри детская пор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жир – 12 гр и 1 грамм соли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мбург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жиры -9.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 flipH="1" rot="3672600">
            <a:off x="-792720" y="5139360"/>
            <a:ext cx="43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авим утром и в школ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керс 57 грамм – 271ккал. Сахар 29 грамм, жир 13.6 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og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шоколадные  шарики – 31 грамм порция – 118 ккал, 10 грамм сах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975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ркетинг  продуктов питания оказывает влияние на  выбор потребителей и формирует пищевые привы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лучае детей раннего возраста – опосредованно через род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чиная с младшего возраста – непосредственно на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маркиров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светофор» для информировании потребителя о пищевой ценности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ый желтый зеленый по нескольким пищевым компонентам рекомендован для размещения на лицевой стороне упак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соединились некоторые производители и часть торговых с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insbury’s, Asda, Waitrose, the Co-operative Group, M&amp;S, McCain, Covent Garden Soup, Benjys, Boots, Kettle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www.eatwell.gov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раил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ект закона ко 2 чт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лереклама продуктов питания и напитков будет разрешена с 2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рет на использование в рекламе образов детей 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золюция ВАЗ 60.23, 2007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ать в рамках Всемирной организации здравоохранения (ВОЗ) </a:t>
            </a: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рекомендации по маркетингу  пищевых продуктов и безалкогольных напитков, для дет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ак воплощение Глобальной стратегии по питанию, физической активности и здоровью (Резолюция ВАЗ 57.17. 2004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ркетинг продуктов питания и безалкогольных напитков для детей. Техническое совещание ВОЗ. Осло. 2006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ю  какой-либо регламентирующей деятельности должна быть защита детей от маркетинга, который враждебно влияет на их питание; такая защита осуществляется посредством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существенного уменьшения объема и влияния коммерческого продвижения высококалорийных малопитательных продуктов и напитков для дет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При этом умеренное усиление продвижения лучшей пищи считается несущественным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ый кодекс маркетинга продуктов питания и безалкогольных напитков для детей Проек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ers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ями настоящего Кодекс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защити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стоящее и будущее поколения от повреждения здоровья, общественных и экономических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последствий употребления высококалорийных, малопитательных, обедненных продуктов питания с высоким содержанием жира, сахара или со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двигать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тветственный маркетин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продуктов питания для дет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поддерживая Глобальную стратегию по диете, физической активности и здоровью посредством ограничения маркетинга  этих продуктов дет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ркетинг продуктов питания для детей должен быть регламентирован ограничениями и запре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иция КонфОП </a:t>
            </a: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обходимо внесение изменений в действующий Закон о рекла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т на рекламу всех продуктов детского питания для детей до 6 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т на рекламу по ТВ и радио с 6 утра до 21 часов всех продуктов питания с повышенным содержанием сахара, соли, жи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т на продвижение продуктов нездорового питания в школ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ет на использование мультипликационных персонажей в рекламе и продвижении продуктов питания для детей с повышенным содержанием сахара, соли, ж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сия КонфОП – гармонизация российских нормативов в области питания с лучшими мировыми практ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ынок рекламы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 рынок около 230 млрд.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реклама в 2007 году 112 млрд. руб, темп роста последние 5 лет от 30-35% (самый высокий по сравнению с другими носителями). 6 место в Европ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Москва, ул. Вавилова, д. 53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+7 495 124-89-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in@konfop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651640" y="474840"/>
            <a:ext cx="23065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происходит в Росс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ольшинстве регионов России население испытывает дефицит важнейших микронутриентов (йода, железа, витаминов и д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массовой профилактики микронутриентной недостаточности не существ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тарым проблемам добавилась проблема роста числа людей с ожирением и лишним ве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происходит в Росс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законодательства защищающего грудное вскармлив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достоверного информирования о пищевой ценности продуктов питания на этикет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ограничений на продвижение продуктов питания с избыточным содержанием жира, соли и саха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законодательных норм стимулирующих обогащение продуктов питания незаменимыми микронутриент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требительского просвещения в области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814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 anchorCtr="1">
            <a:noAutofit/>
          </a:bodyPr>
          <a:p>
            <a:pPr lvl="1" marL="479520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оссия следует классическому цик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>
              <a:lnSpc>
                <a:spcPct val="8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я организованного рите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4160" y="928800"/>
            <a:ext cx="8889480" cy="5932440"/>
            <a:chOff x="254160" y="928800"/>
            <a:chExt cx="8889480" cy="5932440"/>
          </a:xfrm>
        </p:grpSpPr>
        <p:sp>
          <p:nvSpPr>
            <p:cNvPr id="59" name="Text Box 7"/>
            <p:cNvSpPr/>
            <p:nvPr/>
          </p:nvSpPr>
          <p:spPr>
            <a:xfrm>
              <a:off x="254160" y="1676520"/>
              <a:ext cx="1083960" cy="33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Рост доходов населения, особенно в крупных города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Изменение предпочтения покупателей в сторону улучшения сервиса и качест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Увеличение числа работающих женщи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Нехватка свободного времен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Повышение мобильности насе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4"/>
            <p:cNvGrpSpPr/>
            <p:nvPr/>
          </p:nvGrpSpPr>
          <p:grpSpPr>
            <a:xfrm>
              <a:off x="1994760" y="1308240"/>
              <a:ext cx="5333040" cy="1318320"/>
              <a:chOff x="1994760" y="1308240"/>
              <a:chExt cx="5333040" cy="1318320"/>
            </a:xfrm>
          </p:grpSpPr>
          <p:sp>
            <p:nvSpPr>
              <p:cNvPr id="61" name="Text Box 9"/>
              <p:cNvSpPr/>
              <p:nvPr/>
            </p:nvSpPr>
            <p:spPr>
              <a:xfrm>
                <a:off x="1994760" y="1308240"/>
                <a:ext cx="832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6699"/>
                    </a:solidFill>
                    <a:latin typeface="Tahoma"/>
                  </a:rPr>
                  <a:t>Первые игроки развивают базовые форма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"/>
              <p:cNvSpPr/>
              <p:nvPr/>
            </p:nvSpPr>
            <p:spPr>
              <a:xfrm>
                <a:off x="3213720" y="1311120"/>
                <a:ext cx="114840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6699"/>
                    </a:solidFill>
                    <a:latin typeface="Tahoma"/>
                  </a:rPr>
                  <a:t>Быстрый рост, покупатели требуют разнообразия форматов в соответствие с их нужда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6157440" y="1311120"/>
                <a:ext cx="117036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6699"/>
                    </a:solidFill>
                    <a:latin typeface="Tahoma"/>
                  </a:rPr>
                  <a:t>Акцент на работу с покупателем, предугадывание спроса, консолидация рынк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12"/>
              <p:cNvSpPr/>
              <p:nvPr/>
            </p:nvSpPr>
            <p:spPr>
              <a:xfrm>
                <a:off x="4608720" y="1314360"/>
                <a:ext cx="125424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6699"/>
                    </a:solidFill>
                    <a:latin typeface="Tahoma"/>
                  </a:rPr>
                  <a:t>Ритейлеры конкурируют в совершенстве цепочки поставок и </a:t>
                </a:r>
                <a:r>
                  <a:rPr b="0" lang="en-US" sz="1000" spc="-1" strike="noStrike">
                    <a:solidFill>
                      <a:srgbClr val="336699"/>
                    </a:solidFill>
                    <a:latin typeface="Tahoma"/>
                  </a:rPr>
                  <a:t>IT </a:t>
                </a:r>
                <a:r>
                  <a:rPr b="0" lang="ru-RU" sz="1000" spc="-1" strike="noStrike">
                    <a:solidFill>
                      <a:srgbClr val="336699"/>
                    </a:solidFill>
                    <a:latin typeface="Tahoma"/>
                  </a:rPr>
                  <a:t>систем, внимание на эффективность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 Box 15"/>
            <p:cNvSpPr/>
            <p:nvPr/>
          </p:nvSpPr>
          <p:spPr>
            <a:xfrm>
              <a:off x="1785240" y="5343480"/>
              <a:ext cx="1112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99"/>
                  </a:solidFill>
                  <a:latin typeface="Tahoma"/>
                </a:rPr>
                <a:t>Первые ша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99"/>
                  </a:solidFill>
                  <a:latin typeface="Tahoma"/>
                </a:rPr>
                <a:t>(3-6 лет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6"/>
            <p:cNvSpPr/>
            <p:nvPr/>
          </p:nvSpPr>
          <p:spPr>
            <a:xfrm>
              <a:off x="3214080" y="5305320"/>
              <a:ext cx="111312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99"/>
                  </a:solidFill>
                  <a:latin typeface="Tahoma"/>
                </a:rPr>
                <a:t>Конкуренция движет экспанси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99"/>
                  </a:solidFill>
                  <a:latin typeface="Tahoma"/>
                </a:rPr>
                <a:t>(5-8 лет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7"/>
            <p:cNvSpPr/>
            <p:nvPr/>
          </p:nvSpPr>
          <p:spPr>
            <a:xfrm>
              <a:off x="4608720" y="5318280"/>
              <a:ext cx="11131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99"/>
                  </a:solidFill>
                  <a:latin typeface="Tahoma"/>
                </a:rPr>
                <a:t>Начало насыщ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99"/>
                  </a:solidFill>
                  <a:latin typeface="Tahoma"/>
                </a:rPr>
                <a:t>(3-8 лет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8"/>
            <p:cNvSpPr/>
            <p:nvPr/>
          </p:nvSpPr>
          <p:spPr>
            <a:xfrm>
              <a:off x="6156000" y="5318280"/>
              <a:ext cx="14068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99"/>
                  </a:solidFill>
                  <a:latin typeface="Tahoma"/>
                </a:rPr>
                <a:t>Консолидация и диверсификац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99"/>
                  </a:solidFill>
                  <a:latin typeface="Tahoma"/>
                </a:rPr>
                <a:t>(неопределенно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3"/>
            <p:cNvSpPr/>
            <p:nvPr/>
          </p:nvSpPr>
          <p:spPr>
            <a:xfrm>
              <a:off x="3119760" y="1380960"/>
              <a:ext cx="0" cy="4635720"/>
            </a:xfrm>
            <a:prstGeom prst="line">
              <a:avLst/>
            </a:prstGeom>
            <a:ln w="93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4"/>
            <p:cNvSpPr/>
            <p:nvPr/>
          </p:nvSpPr>
          <p:spPr>
            <a:xfrm>
              <a:off x="1596240" y="5318280"/>
              <a:ext cx="6189120" cy="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5"/>
            <p:cNvSpPr/>
            <p:nvPr/>
          </p:nvSpPr>
          <p:spPr>
            <a:xfrm>
              <a:off x="4514760" y="1406520"/>
              <a:ext cx="0" cy="4635360"/>
            </a:xfrm>
            <a:prstGeom prst="line">
              <a:avLst/>
            </a:prstGeom>
            <a:ln w="93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6"/>
            <p:cNvSpPr/>
            <p:nvPr/>
          </p:nvSpPr>
          <p:spPr>
            <a:xfrm>
              <a:off x="6062400" y="1380960"/>
              <a:ext cx="0" cy="4635720"/>
            </a:xfrm>
            <a:prstGeom prst="line">
              <a:avLst/>
            </a:prstGeom>
            <a:ln w="93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7"/>
            <p:cNvSpPr/>
            <p:nvPr/>
          </p:nvSpPr>
          <p:spPr>
            <a:xfrm>
              <a:off x="1982880" y="2587680"/>
              <a:ext cx="4958640" cy="248904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8"/>
            <p:cNvSpPr/>
            <p:nvPr/>
          </p:nvSpPr>
          <p:spPr>
            <a:xfrm flipV="1">
              <a:off x="1596240" y="1266840"/>
              <a:ext cx="23400" cy="405144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40" descr="MCFL00042_0000[1]"/>
            <p:cNvPicPr/>
            <p:nvPr/>
          </p:nvPicPr>
          <p:blipFill>
            <a:blip r:embed="rId1"/>
            <a:stretch/>
          </p:blipFill>
          <p:spPr>
            <a:xfrm>
              <a:off x="2849040" y="4813200"/>
              <a:ext cx="262080" cy="184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6" name="Text Box 41"/>
            <p:cNvSpPr/>
            <p:nvPr/>
          </p:nvSpPr>
          <p:spPr>
            <a:xfrm>
              <a:off x="2563200" y="4594320"/>
              <a:ext cx="74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Инд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43" descr="MPj03628560000[1]"/>
            <p:cNvPicPr/>
            <p:nvPr/>
          </p:nvPicPr>
          <p:blipFill>
            <a:blip r:embed="rId2"/>
            <a:stretch/>
          </p:blipFill>
          <p:spPr>
            <a:xfrm>
              <a:off x="3133080" y="4695840"/>
              <a:ext cx="245880" cy="177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8" name="Text Box 44"/>
            <p:cNvSpPr/>
            <p:nvPr/>
          </p:nvSpPr>
          <p:spPr>
            <a:xfrm>
              <a:off x="3237120" y="4695840"/>
              <a:ext cx="85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Украин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45"/>
            <p:cNvGrpSpPr/>
            <p:nvPr/>
          </p:nvGrpSpPr>
          <p:grpSpPr>
            <a:xfrm>
              <a:off x="3588840" y="3768840"/>
              <a:ext cx="691560" cy="404280"/>
              <a:chOff x="3588840" y="3768840"/>
              <a:chExt cx="691560" cy="404280"/>
            </a:xfrm>
          </p:grpSpPr>
          <p:pic>
            <p:nvPicPr>
              <p:cNvPr id="80" name="Picture 46" descr="MPj04008010000[1]"/>
              <p:cNvPicPr/>
              <p:nvPr/>
            </p:nvPicPr>
            <p:blipFill>
              <a:blip r:embed="rId3"/>
              <a:stretch/>
            </p:blipFill>
            <p:spPr>
              <a:xfrm>
                <a:off x="3827160" y="3985920"/>
                <a:ext cx="216720" cy="187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1" name="Text Box 47"/>
              <p:cNvSpPr/>
              <p:nvPr/>
            </p:nvSpPr>
            <p:spPr>
              <a:xfrm>
                <a:off x="3588840" y="3768840"/>
                <a:ext cx="69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Picture 51" descr="MCFL00266_0000[1]"/>
            <p:cNvPicPr/>
            <p:nvPr/>
          </p:nvPicPr>
          <p:blipFill>
            <a:blip r:embed="rId4"/>
            <a:stretch/>
          </p:blipFill>
          <p:spPr>
            <a:xfrm>
              <a:off x="4366800" y="3244680"/>
              <a:ext cx="262080" cy="1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2"/>
            <p:cNvSpPr/>
            <p:nvPr/>
          </p:nvSpPr>
          <p:spPr>
            <a:xfrm>
              <a:off x="3715200" y="3209760"/>
              <a:ext cx="76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Турц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54" descr=""/>
            <p:cNvPicPr/>
            <p:nvPr/>
          </p:nvPicPr>
          <p:blipFill>
            <a:blip r:embed="rId5"/>
            <a:stretch/>
          </p:blipFill>
          <p:spPr>
            <a:xfrm>
              <a:off x="6104880" y="2438280"/>
              <a:ext cx="33660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55"/>
            <p:cNvSpPr/>
            <p:nvPr/>
          </p:nvSpPr>
          <p:spPr>
            <a:xfrm>
              <a:off x="5946480" y="2241720"/>
              <a:ext cx="62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СШ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57" descr=""/>
            <p:cNvPicPr/>
            <p:nvPr/>
          </p:nvPicPr>
          <p:blipFill>
            <a:blip r:embed="rId6"/>
            <a:stretch/>
          </p:blipFill>
          <p:spPr>
            <a:xfrm>
              <a:off x="6491520" y="2473200"/>
              <a:ext cx="3427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58"/>
            <p:cNvSpPr/>
            <p:nvPr/>
          </p:nvSpPr>
          <p:spPr>
            <a:xfrm>
              <a:off x="6296760" y="2616120"/>
              <a:ext cx="137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Великобрит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59"/>
            <p:cNvGrpSpPr/>
            <p:nvPr/>
          </p:nvGrpSpPr>
          <p:grpSpPr>
            <a:xfrm>
              <a:off x="5514480" y="2521080"/>
              <a:ext cx="799560" cy="382680"/>
              <a:chOff x="5514480" y="2521080"/>
              <a:chExt cx="799560" cy="382680"/>
            </a:xfrm>
          </p:grpSpPr>
          <p:pic>
            <p:nvPicPr>
              <p:cNvPr id="89" name="Picture 60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000" y="2521080"/>
                <a:ext cx="28224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61"/>
              <p:cNvSpPr/>
              <p:nvPr/>
            </p:nvSpPr>
            <p:spPr>
              <a:xfrm>
                <a:off x="5514480" y="2657520"/>
                <a:ext cx="79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Герма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63"/>
            <p:cNvGrpSpPr/>
            <p:nvPr/>
          </p:nvGrpSpPr>
          <p:grpSpPr>
            <a:xfrm>
              <a:off x="5127480" y="2635200"/>
              <a:ext cx="301680" cy="176040"/>
              <a:chOff x="5127480" y="2635200"/>
              <a:chExt cx="301680" cy="176040"/>
            </a:xfrm>
          </p:grpSpPr>
          <p:pic>
            <p:nvPicPr>
              <p:cNvPr id="92" name="Picture 64" descr="MCFL00257_0000[1]"/>
              <p:cNvPicPr/>
              <p:nvPr/>
            </p:nvPicPr>
            <p:blipFill>
              <a:blip r:embed="rId8"/>
              <a:stretch/>
            </p:blipFill>
            <p:spPr>
              <a:xfrm>
                <a:off x="5127480" y="2635200"/>
                <a:ext cx="301680" cy="1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Rectangle 65"/>
              <p:cNvSpPr/>
              <p:nvPr/>
            </p:nvSpPr>
            <p:spPr>
              <a:xfrm>
                <a:off x="5238720" y="2663640"/>
                <a:ext cx="8640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Text Box 66"/>
            <p:cNvSpPr/>
            <p:nvPr/>
          </p:nvSpPr>
          <p:spPr>
            <a:xfrm>
              <a:off x="4954320" y="2428920"/>
              <a:ext cx="7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Итал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68" descr="MCFL00011_0000[1]"/>
            <p:cNvPicPr/>
            <p:nvPr/>
          </p:nvPicPr>
          <p:blipFill>
            <a:blip r:embed="rId9"/>
            <a:stretch/>
          </p:blipFill>
          <p:spPr>
            <a:xfrm>
              <a:off x="4876920" y="2913120"/>
              <a:ext cx="26028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69"/>
            <p:cNvSpPr/>
            <p:nvPr/>
          </p:nvSpPr>
          <p:spPr>
            <a:xfrm>
              <a:off x="5121720" y="2905200"/>
              <a:ext cx="82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Польш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71" descr="MCFL00257_0000[1]"/>
            <p:cNvPicPr/>
            <p:nvPr/>
          </p:nvPicPr>
          <p:blipFill>
            <a:blip r:embed="rId10"/>
            <a:stretch/>
          </p:blipFill>
          <p:spPr>
            <a:xfrm>
              <a:off x="4579200" y="2911320"/>
              <a:ext cx="28440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72"/>
            <p:cNvSpPr/>
            <p:nvPr/>
          </p:nvSpPr>
          <p:spPr>
            <a:xfrm>
              <a:off x="4261320" y="2692440"/>
              <a:ext cx="82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Мекси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7747200" y="2009880"/>
              <a:ext cx="1260000" cy="27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Усиление конкурен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еренасыщение массовых форматов (супер- и гипермаркето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Конвергенция форматов для соответствия дифферинциированному спросу потребител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Уменьшение свободных площад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08"/>
            <p:cNvSpPr/>
            <p:nvPr/>
          </p:nvSpPr>
          <p:spPr>
            <a:xfrm>
              <a:off x="258120" y="1244520"/>
              <a:ext cx="1079640" cy="301680"/>
            </a:xfrm>
            <a:prstGeom prst="rect">
              <a:avLst/>
            </a:prstGeom>
            <a:solidFill>
              <a:srgbClr val="4f8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Стиль жизни потребител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8"/>
            <p:cNvSpPr/>
            <p:nvPr/>
          </p:nvSpPr>
          <p:spPr>
            <a:xfrm>
              <a:off x="7665120" y="1228680"/>
              <a:ext cx="1298160" cy="301680"/>
            </a:xfrm>
            <a:prstGeom prst="rect">
              <a:avLst/>
            </a:prstGeom>
            <a:solidFill>
              <a:srgbClr val="4f8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Отраслевые факто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4"/>
            <p:cNvSpPr/>
            <p:nvPr/>
          </p:nvSpPr>
          <p:spPr>
            <a:xfrm>
              <a:off x="3988800" y="6492960"/>
              <a:ext cx="51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808080"/>
                  </a:solidFill>
                  <a:latin typeface="Arial"/>
                </a:rPr>
                <a:t>Источник:</a:t>
              </a:r>
              <a:r>
                <a:rPr b="0" i="1" lang="en-US" sz="900" spc="-1" strike="noStrike">
                  <a:solidFill>
                    <a:srgbClr val="808080"/>
                  </a:solidFill>
                  <a:latin typeface="Arial"/>
                </a:rPr>
                <a:t> HSBC Global Research, </a:t>
              </a:r>
              <a:r>
                <a:rPr b="0" i="1" lang="ru-RU" sz="900" spc="-1" strike="noStrike">
                  <a:solidFill>
                    <a:srgbClr val="808080"/>
                  </a:solidFill>
                  <a:latin typeface="Arial"/>
                </a:rPr>
                <a:t>анализ </a:t>
              </a:r>
              <a:r>
                <a:rPr b="0" i="1" lang="en-US" sz="900" spc="-1" strike="noStrike">
                  <a:solidFill>
                    <a:srgbClr val="808080"/>
                  </a:solidFill>
                  <a:latin typeface="Arial"/>
                </a:rPr>
                <a:t>A.T. Kearney, 2007, </a:t>
              </a:r>
              <a:r>
                <a:rPr b="0" i="1" lang="ru-RU" sz="900" spc="-1" strike="noStrike">
                  <a:solidFill>
                    <a:srgbClr val="808080"/>
                  </a:solidFill>
                  <a:latin typeface="Arial"/>
                </a:rPr>
                <a:t>Ренессанс Капитал, анализк розничных компа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48" descr="MCFL00013_0000[1]"/>
            <p:cNvPicPr/>
            <p:nvPr/>
          </p:nvPicPr>
          <p:blipFill>
            <a:blip r:embed="rId11"/>
            <a:stretch/>
          </p:blipFill>
          <p:spPr>
            <a:xfrm>
              <a:off x="3241440" y="4471920"/>
              <a:ext cx="28980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49"/>
            <p:cNvSpPr/>
            <p:nvPr/>
          </p:nvSpPr>
          <p:spPr>
            <a:xfrm>
              <a:off x="2148480" y="4235400"/>
              <a:ext cx="13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Росс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61"/>
            <p:cNvSpPr/>
            <p:nvPr/>
          </p:nvSpPr>
          <p:spPr>
            <a:xfrm>
              <a:off x="1442160" y="928800"/>
              <a:ext cx="15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Шка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1584720" y="3092400"/>
              <a:ext cx="468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699"/>
                  </a:solidFill>
                  <a:latin typeface="Tahoma"/>
                </a:rPr>
                <a:t>5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1568880" y="4076640"/>
              <a:ext cx="468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699"/>
                  </a:solidFill>
                  <a:latin typeface="Tahoma"/>
                </a:rPr>
                <a:t>25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1580040" y="2265480"/>
              <a:ext cx="549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699"/>
                  </a:solidFill>
                  <a:latin typeface="Tahoma"/>
                </a:rPr>
                <a:t>1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 rot="16200000">
              <a:off x="304200" y="3062160"/>
              <a:ext cx="2472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36699"/>
                  </a:solidFill>
                  <a:latin typeface="Tahoma"/>
                </a:rPr>
                <a:t>Доля современных форматов (%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754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 anchorCtr="1">
            <a:noAutofit/>
          </a:bodyPr>
          <a:p>
            <a:pPr lvl="1" marL="4795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ссийский рынок продуктовой розниц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6600" y="979560"/>
            <a:ext cx="9077040" cy="5579280"/>
            <a:chOff x="66600" y="979560"/>
            <a:chExt cx="9077040" cy="5579280"/>
          </a:xfrm>
        </p:grpSpPr>
        <p:graphicFrame>
          <p:nvGraphicFramePr>
            <p:cNvPr id="112" name=""/>
            <p:cNvGraphicFramePr/>
            <p:nvPr/>
          </p:nvGraphicFramePr>
          <p:xfrm>
            <a:off x="4754520" y="1486080"/>
            <a:ext cx="4182120" cy="21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54520" y="1486080"/>
                      <a:ext cx="4182120" cy="21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368280" y="979560"/>
              <a:ext cx="819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чень незрелый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7560" y="3641760"/>
              <a:ext cx="4314240" cy="235080"/>
            </a:xfrm>
            <a:prstGeom prst="rect">
              <a:avLst/>
            </a:prstGeom>
            <a:solidFill>
              <a:srgbClr val="4f8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Число дискаунтеров 100 тыс.жи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4766400" y="3886200"/>
            <a:ext cx="4182120" cy="2184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66400" y="3886200"/>
                      <a:ext cx="4182120" cy="21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4838040" y="3641760"/>
              <a:ext cx="4055040" cy="247680"/>
            </a:xfrm>
            <a:prstGeom prst="rect">
              <a:avLst/>
            </a:prstGeom>
            <a:solidFill>
              <a:srgbClr val="4f8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Число супермаркетов на 100 тыс.жи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38040" y="1378080"/>
              <a:ext cx="4055040" cy="247680"/>
            </a:xfrm>
            <a:prstGeom prst="rect">
              <a:avLst/>
            </a:prstGeom>
            <a:solidFill>
              <a:srgbClr val="4f8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Число гипермаркетов на 100 тыс.жите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66600" y="1282680"/>
            <a:ext cx="4742280" cy="231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600" y="1282680"/>
                      <a:ext cx="4742280" cy="231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>
            <a:off x="581040" y="3886200"/>
            <a:ext cx="4182120" cy="2184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1040" y="3886200"/>
                      <a:ext cx="4182120" cy="21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209880" y="1378080"/>
              <a:ext cx="4301280" cy="247680"/>
            </a:xfrm>
            <a:prstGeom prst="rect">
              <a:avLst/>
            </a:prstGeom>
            <a:solidFill>
              <a:srgbClr val="4f8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озничные продажи на душу насе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520" y="1587600"/>
              <a:ext cx="409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46120" y="6327720"/>
              <a:ext cx="4097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808080"/>
                  </a:solidFill>
                  <a:latin typeface="Arial"/>
                </a:rPr>
                <a:t>Источник</a:t>
              </a:r>
              <a:r>
                <a:rPr b="0" i="1" lang="en-US" sz="900" spc="-1" strike="noStrike">
                  <a:solidFill>
                    <a:srgbClr val="808080"/>
                  </a:solidFill>
                  <a:latin typeface="Arial"/>
                </a:rPr>
                <a:t>: Euromonitor, Rewe; </a:t>
              </a:r>
              <a:r>
                <a:rPr b="0" i="1" lang="ru-RU" sz="900" spc="-1" strike="noStrike">
                  <a:solidFill>
                    <a:srgbClr val="808080"/>
                  </a:solidFill>
                  <a:latin typeface="Arial"/>
                </a:rPr>
                <a:t>расчет </a:t>
              </a:r>
              <a:r>
                <a:rPr b="0" i="1" lang="en-US" sz="900" spc="-1" strike="noStrike">
                  <a:solidFill>
                    <a:srgbClr val="808080"/>
                  </a:solidFill>
                  <a:latin typeface="Arial"/>
                </a:rPr>
                <a:t>BCG, 2007; Planet Retail, 200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538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 anchorCtr="1">
            <a:noAutofit/>
          </a:bodyPr>
          <a:p>
            <a:pPr lvl="1" marL="4795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тенциал рынка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0"/>
          <p:cNvSpPr/>
          <p:nvPr/>
        </p:nvSpPr>
        <p:spPr>
          <a:xfrm>
            <a:off x="4694400" y="6296040"/>
            <a:ext cx="49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808080"/>
                </a:solidFill>
                <a:latin typeface="Arial"/>
              </a:rPr>
              <a:t>* Источник: </a:t>
            </a: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CIA Fact book, Planet Retail</a:t>
            </a:r>
            <a:r>
              <a:rPr b="0" i="1" lang="ru-RU" sz="10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UBS</a:t>
            </a:r>
            <a:r>
              <a:rPr b="0" i="1" lang="ru-RU" sz="1000" spc="-1" strike="noStrike">
                <a:solidFill>
                  <a:srgbClr val="808080"/>
                </a:solidFill>
                <a:latin typeface="Arial"/>
              </a:rPr>
              <a:t>, Росстат,2007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96840" y="1536840"/>
          <a:ext cx="7089840" cy="3346200"/>
        </p:xfrm>
        <a:graphic>
          <a:graphicData uri="http://schemas.openxmlformats.org/drawingml/2006/table">
            <a:tbl>
              <a:tblPr/>
              <a:tblGrid>
                <a:gridCol w="1553040"/>
                <a:gridCol w="1573920"/>
                <a:gridCol w="1320480"/>
                <a:gridCol w="1321920"/>
                <a:gridCol w="1320480"/>
              </a:tblGrid>
              <a:tr h="116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558e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й рынок</a:t>
                      </a:r>
                      <a:r>
                        <a:rPr b="1" lang="ru-RU" sz="11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(1)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родуктового ритейла (млрд.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D)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06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558e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й рын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зничной торгов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лрд.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D)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06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558e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я продуктов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тейла в общ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ынке розн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558e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ость роста рынка продуктовой розн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007 г.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2006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558ec7">
                        <a:alpha val="50000"/>
                      </a:srgbClr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. С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 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8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. Ки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64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. Япо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 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. Ин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66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2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. Фра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6. Великобри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7. Герм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9. Исп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9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Oval 147"/>
          <p:cNvSpPr/>
          <p:nvPr/>
        </p:nvSpPr>
        <p:spPr>
          <a:xfrm>
            <a:off x="7077240" y="4324320"/>
            <a:ext cx="660240" cy="314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48"/>
          <p:cNvSpPr/>
          <p:nvPr/>
        </p:nvSpPr>
        <p:spPr>
          <a:xfrm>
            <a:off x="7095960" y="3295800"/>
            <a:ext cx="658800" cy="314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9"/>
          <p:cNvSpPr/>
          <p:nvPr/>
        </p:nvSpPr>
        <p:spPr>
          <a:xfrm>
            <a:off x="7077240" y="2790720"/>
            <a:ext cx="660240" cy="314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1001880" y="1150920"/>
            <a:ext cx="7081560" cy="299880"/>
          </a:xfrm>
          <a:prstGeom prst="rect">
            <a:avLst/>
          </a:prstGeom>
          <a:solidFill>
            <a:srgbClr val="558e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Россия в мире (объем и скорость роста рынка розничной торговли продуктов питания)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0"/>
          <p:cNvSpPr/>
          <p:nvPr/>
        </p:nvSpPr>
        <p:spPr>
          <a:xfrm>
            <a:off x="923760" y="4865760"/>
            <a:ext cx="595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336699"/>
                </a:solidFill>
                <a:latin typeface="Arial Narrow"/>
              </a:rPr>
              <a:t>(1)</a:t>
            </a:r>
            <a:r>
              <a:rPr b="0" lang="en-US" sz="800" spc="-1" strike="noStrike">
                <a:solidFill>
                  <a:srgbClr val="336699"/>
                </a:solidFill>
                <a:latin typeface="Arial Narrow"/>
              </a:rPr>
              <a:t> – показатель  рынка продуктового ритейла включает в себя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 Narrow"/>
              </a:rPr>
              <a:t>     </a:t>
            </a:r>
            <a:r>
              <a:rPr b="0" lang="en-US" sz="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800" spc="-1" strike="noStrike">
                <a:solidFill>
                  <a:srgbClr val="336699"/>
                </a:solidFill>
                <a:latin typeface="Arial Narrow"/>
              </a:rPr>
              <a:t>- оборот современной розничной торговли (гипер, супер,  дискаунтер и др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800" spc="-1" strike="noStrike">
                <a:solidFill>
                  <a:srgbClr val="336699"/>
                </a:solidFill>
                <a:latin typeface="Arial Narrow"/>
              </a:rPr>
              <a:t>- совокупный оборот  традиционного розничного рынка (магазины, павильоны, палатки, частные торговые точки и пр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800" spc="-1" strike="noStrike">
                <a:solidFill>
                  <a:srgbClr val="336699"/>
                </a:solidFill>
                <a:latin typeface="Arial Narrow"/>
              </a:rPr>
              <a:t>- оборот открытых продуктовых рынк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устр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саморегулиро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агрессивного маркетинга для продвижения (примеры фаст-фуд как место отдыха детей, детское питание, сок «моя семья», майонез как полезный продукт, Адреналин РАШ (энергетик Пепс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20:14:15Z</dcterms:created>
  <dc:creator>User</dc:creator>
  <dc:description/>
  <dc:language>en-US</dc:language>
  <cp:lastModifiedBy>EA</cp:lastModifiedBy>
  <dcterms:modified xsi:type="dcterms:W3CDTF">2009-06-29T06:25:22Z</dcterms:modified>
  <cp:revision>42</cp:revision>
  <dc:subject/>
  <dc:title>Слайд 1</dc:title>
</cp:coreProperties>
</file>