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25C7-324B-49E1-880B-F48B2DEF25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видно, что это – только «верхушка айсберга». Значительная часть граждан, не довольная медпомощью, предпочитает уйти от конфликта из страх перед врач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убрать жалобы на отсутствие полисов ОМС (350 000), то жалобы на КМП составят 1% от числа жалоб и обращ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обращений в Лигу составляет до 15 % за пол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% обращений в Лигу - цифра, сопоставимая с соотношением в системе ОМ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выплат пациентам в Лиге по досудебным разбирательствам составляет, в среднем, 10 000 рублей; по судебным – 80 000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c00"/>
                </a:solidFill>
                <a:latin typeface="Arial"/>
              </a:rPr>
              <a:t>В США – 80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c00"/>
                </a:solidFill>
                <a:latin typeface="Arial"/>
              </a:rPr>
              <a:t>Так, если еще в 2001 году обычный размер компенсации морального вреда в суде составлял 5 000 рублей, то сегодня известны цифры - </a:t>
            </a:r>
            <a:r>
              <a:rPr b="1" lang="ru-RU" sz="1000" spc="-1" strike="noStrike">
                <a:solidFill>
                  <a:srgbClr val="cc3300"/>
                </a:solidFill>
                <a:latin typeface="Arial"/>
              </a:rPr>
              <a:t>150 000 рубл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Arial"/>
              </a:rPr>
              <a:t>Закон о защите прав потребител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видно, что это – только «верхушка айсберга». Значительная часть граждан, не довольная медпомощью, предпочитает уйти от конфликта из страх перед врач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убрать жалобы на отсутствие полисов ОМС (350 000), то жалобы на КМП составят 1% от числа жалоб и обращ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обращений в Лигу составляет до 15 % за пол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% обращений в Лигу - цифра, сопоставимая с соотношением в системе ОМ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выплат пациентам в Лиге по досудебным разбирательствам составляет, в среднем, 10 000 рублей; по судебным – 80 000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c00"/>
                </a:solidFill>
                <a:latin typeface="Arial"/>
              </a:rPr>
              <a:t>В США – 80 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cc00"/>
                </a:solidFill>
                <a:latin typeface="Arial"/>
              </a:rPr>
              <a:t>Так, если еще в 2001 году обычный размер компенсации морального вреда в суде составлял 5 000 рублей, то сегодня известны цифры - </a:t>
            </a:r>
            <a:r>
              <a:rPr b="1" lang="ru-RU" sz="1000" spc="-1" strike="noStrike">
                <a:solidFill>
                  <a:srgbClr val="cc3300"/>
                </a:solidFill>
                <a:latin typeface="Arial"/>
              </a:rPr>
              <a:t>150 000 рубл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3300"/>
                </a:solidFill>
                <a:latin typeface="Arial"/>
              </a:rPr>
              <a:t>Закон о защите прав потребителе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ценкам ВОЗ РФ на 130-ом месте по уровню здравоохран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сновная часть жалоб и исков пациентов связана с грубостью медперсон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екларативность Статьи 41 Конституции РФ о бесплатной медпомощ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 заплатил деньги – дайте то, что я хоч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Более 30 федеральных законов и около 300 региональных о здравоохран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ев правед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17EE-5C40-4A4A-9779-1D2FE73A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7DE6-7F4A-46B0-B7A3-286D04F1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EF4-7D44-4E63-A31F-84FA3975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C270-4990-49B5-86EF-C0AF2E94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D1AD-BE02-4061-9122-0C7197AD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5519-E9A3-4520-994A-E392CD9B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13A8-9938-402E-9D85-338C6F78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AAC3-0542-4035-A01C-0D7F38E8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B184-9C5F-4630-AD07-FEDE2768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FBEF-E778-4E17-9ACF-372E11B1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24A1-B42A-486D-881F-31D0A955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649C-25D4-4683-861A-85448C1D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67B7-1229-447D-B74D-56B7ED4A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CDD0-EC3A-4873-8E33-58E2A575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26E4-4393-47A7-B74F-97B4001C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1E91-1F43-459C-97E1-E02C58D4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D47F-EEA9-4E68-9406-2613473D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8F9-C3CE-401A-BE37-71B570F9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FDC-F2C5-4306-B5B1-D7B0E521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B100-7495-429C-ADD8-0304403D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CC7-C127-4776-99BC-F3355E5C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25D8-127C-41BB-BB7E-38ABB748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EFA3-05F4-4400-B7E9-78F91AD3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8264-F29A-46FE-B759-C5B7BB57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BD48-B3F9-4DD1-96A5-80C3962FFA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DAB1-499D-405B-BAD3-9AE2122366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1557000"/>
            <a:ext cx="73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МЕДИЦИНСКАЯ КОРПОРАЦИЯ И ПРОБЛЕМЫ РЕАЛИЗАЦИИ ПРАВА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НА ОХРАНУ ЗДОРОВЬЯ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484360" y="4076280"/>
            <a:ext cx="5975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едседатель Общественного Совета по защите прав пациентов при Росздравнадз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А.В. Сав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33"/>
                </a:solidFill>
                <a:latin typeface="Times New Roman"/>
              </a:rPr>
              <a:t>Основы законодательства РФ «Об охране здоровья граждан» (ст. 30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выбор врача, в том числе врача общей практики (семейного врача) и лечащего врача,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с учетом его согласия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, а также выбор лечебно-профилактического учреждения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соответствии с договорами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обязательного и добровольного медицинского страх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оведение по его просьб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консилиума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и консультаций других специалис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сохранение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тайне информации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о факте обращения за медицинской помощью, о состоянии здоровья, диагнозе и иных сведений, полученных при его обследовании и лечении, в соответствии со статьей 61 Ос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информированное добровольное согласие на медицинское вмешательство в соответствии со статьей 32 настоящих Ос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отказ от медицинского вмешательства в соответствии со статьей 33 настоящих Осн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олучение информации о своих правах и обязанностях и состоянии своего здоровья в соответствии со статьей 31 настоящих Основ, а также на выбор лиц, которым в интересах пациента может быть передана информация о состоянии его здоров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допуск к нему законного представителя (адвоката) и священнослуж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33"/>
                </a:solidFill>
                <a:latin typeface="Times New Roman"/>
              </a:rPr>
              <a:t>Основы законодательства РФ «Об охране здоровья граждан» (ст. 3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Каждый гражданин имеет право в доступной для него форме получить имеющуюся информацию о состоянии своего здоровья, включая сведения о результатах обследования, наличии заболевания, его диагнозе и прогнозе,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методах лечения, связанном с ними риске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, возможных вариантах медицинского вмешательства, их последствиях и результатах проведенного леч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Информация о состоянии здоровья не может быть предоставлена гражданину против его воли. В случаях неблагоприятного прогноза развития заболевания информация должна сообщаться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 деликатной форме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 гражданину и членам его семьи, если гражданин не запретил сообщать им об этом и (или) не назначил лицо, которому должна быть передана такая информ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Гражданин имеет право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непосредственно знакомиться с медицинской документацией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, отражающей состояние его здоровья, и получать консультации по ней у других специалистов. По требованию гражданина ему предоставляются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копии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 медицинских документов, отражающих состояние его здоровья, если в них не затрагиваются интересы третьей стор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Информация, содержащаяся в медицинских документах гражданина, составляет врачебную тайну и может предоставляться без согласия гражданина только по основаниям, предусмотренным статьей 61 настоящих Ос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33"/>
                </a:solidFill>
                <a:latin typeface="Times New Roman"/>
              </a:rPr>
              <a:t>Независимость экспертиз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Право на экспертизу, включая независимую … в случае несогласия с заключением ВВК и патолого-анатомических вскрытий (ст. 5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Согласно ст. 7 ФЗ РФ «О государственной судебно-экспертной деятельности в РФ» экспертиза не зависит от сторон, заинтересованных в исходе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Times New Roman"/>
              </a:rPr>
              <a:t>Проблемы реализации права на охрану здоровья граждан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6920" y="220464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Общемиров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Общероссийск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33"/>
                </a:solidFill>
                <a:latin typeface="Arial"/>
              </a:rPr>
              <a:t>Общемировая «проблема»</a:t>
            </a:r>
            <a:r>
              <a:rPr b="0" lang="ru-RU" sz="4200" spc="-1" strike="noStrike">
                <a:solidFill>
                  <a:srgbClr val="990033"/>
                </a:solidFill>
                <a:latin typeface="Arial"/>
              </a:rPr>
              <a:t> 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7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корпоративность медицинского со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Общие черты, присущие корпорация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3300"/>
                </a:solidFill>
                <a:latin typeface="Arial"/>
              </a:rPr>
              <a:t>специфичность услуги (товара)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3300"/>
                </a:solidFill>
                <a:latin typeface="Arial"/>
              </a:rPr>
              <a:t>материальный интерес участников корпораци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3300"/>
                </a:solidFill>
                <a:latin typeface="Arial"/>
              </a:rPr>
              <a:t>общее информационное и научное пространство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3300"/>
                </a:solidFill>
                <a:latin typeface="Arial"/>
              </a:rPr>
              <a:t>общий правовой интерес (защита прав и имущества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3300"/>
                </a:solidFill>
                <a:latin typeface="Arial"/>
              </a:rPr>
              <a:t>собственный язык и понятия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3300"/>
                </a:solidFill>
                <a:latin typeface="Arial"/>
              </a:rPr>
              <a:t>стремление влиять на политику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3300"/>
                </a:solidFill>
                <a:latin typeface="Arial"/>
              </a:rPr>
              <a:t>закрытос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0033"/>
                </a:solidFill>
                <a:latin typeface="Arial"/>
              </a:rPr>
              <a:t>Корпоративность должна быть позитивной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3915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0033"/>
                </a:solidFill>
                <a:latin typeface="Times New Roman"/>
              </a:rPr>
              <a:t>1-я Особенность медицинской профессии:</a:t>
            </a:r>
            <a:r>
              <a:rPr b="0" lang="ru-RU" sz="29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2900"/>
            </a:br>
            <a:r>
              <a:rPr b="0" lang="ru-RU" sz="2900" spc="-1" strike="noStrike">
                <a:solidFill>
                  <a:srgbClr val="990033"/>
                </a:solidFill>
                <a:latin typeface="Times New Roman"/>
              </a:rPr>
              <a:t>право распоряжаться жизнью и здоровьем пациента в его интересах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Такое право порожд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Зависимость общества от всей корпорации, а конкретного пациента - от конкретного вр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Страх пациента перед врач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Невозможность полноценно контролировать денежные потоки и их размер, потому что здоровье и жизнь бесцен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0033"/>
                </a:solidFill>
                <a:latin typeface="Times New Roman"/>
              </a:rPr>
              <a:t>2-ая Особенность медицинской корпорации:</a:t>
            </a:r>
            <a:r>
              <a:rPr b="0" lang="ru-RU" sz="3400" spc="-1" strike="noStrike">
                <a:solidFill>
                  <a:srgbClr val="990033"/>
                </a:solidFill>
                <a:latin typeface="Times New Roman"/>
              </a:rPr>
              <a:t> </a:t>
            </a:r>
            <a:br>
              <a:rPr sz="3400"/>
            </a:br>
            <a:r>
              <a:rPr b="0" lang="ru-RU" sz="2500" spc="-1" strike="noStrike">
                <a:solidFill>
                  <a:srgbClr val="990033"/>
                </a:solidFill>
                <a:latin typeface="Times New Roman"/>
              </a:rPr>
              <a:t>«парадокс специфичности и общедоступности понятий»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Существует в профессии необходимость пользоваться специальными терминами и понятиями, но этот язык должен быть понятен всем пациентам и общ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Требуют единства определение понят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Здоровь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аци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иск медицинского вмешатель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раво на охрану здоровья (медицинское, пациентское?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едицинские понятия и терм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Здоровье - эт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остояние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полного физического, душевного и социального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благополучия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, а не только отсутствие болезней или физических дефектов» (Устав ВО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остоянье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животного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тела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(или растения), когда все жизненные отправления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дут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в полном порядке; отсутствие недуга, болезни». (В.Дал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«естественное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остояние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организма, характеризующееся его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уравновешенностью с окружающей средой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и отсутствием каких-либо болезненных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изменений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» (БСЭ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«1. Нормальное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остояние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правильно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функционирующего, неповрежденного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организма» (Уша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остояние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целеполагающей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жизнедеятельности,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воспроизводящей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психофизиологическую потребность в добровольном напряжении. («Клиническая психология» под редакцией Н.Д. Твороговой и А.В. Петрен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естественная способность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человека в целом, всех частей и уровней его организма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существлять нормальную жизнедеятельность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90033"/>
                </a:solidFill>
                <a:latin typeface="Times New Roman"/>
              </a:rPr>
              <a:t>3-ая Особенность медицинской корпорации:</a:t>
            </a:r>
            <a:r>
              <a:rPr b="0" lang="ru-RU" sz="3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ru-RU" sz="2900" spc="-1" strike="noStrike">
                <a:solidFill>
                  <a:srgbClr val="990033"/>
                </a:solidFill>
                <a:latin typeface="Times New Roman"/>
              </a:rPr>
              <a:t>«экономические парадоксы»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232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Деньги должны выплачиваться за результат, а не за процесс, но результат в медицине не всегда достиж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Доходы медицинской корпорации (врача) должны быть наибольшими, если граждане не болеют, - профилакт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Times New Roman"/>
              </a:rPr>
              <a:t>Особая проблема:</a:t>
            </a:r>
            <a:br>
              <a:rPr sz="2900"/>
            </a:br>
            <a:r>
              <a:rPr b="0" lang="ru-RU" sz="2900" spc="-1" strike="noStrike">
                <a:solidFill>
                  <a:srgbClr val="990033"/>
                </a:solidFill>
                <a:latin typeface="Times New Roman"/>
              </a:rPr>
              <a:t>навязывание корпорацией услуг и товаров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Экономическая выгода влечет за собой желание продать больше товаров и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Arial"/>
              </a:rPr>
              <a:t>Результат:</a:t>
            </a:r>
            <a:r>
              <a:rPr b="0" lang="ru-RU" sz="22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993300"/>
                </a:solidFill>
                <a:latin typeface="Arial"/>
              </a:rPr>
              <a:t>нарушается принцип «не навреди» - требования безопасности, научности и обоснованности, соотношение риска и благоприятного прогноз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00"/>
                </a:solidFill>
                <a:latin typeface="Arial"/>
              </a:rPr>
              <a:t>Лечить выгоднее здоровы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Arial"/>
              </a:rPr>
              <a:t>Вопрос: сколько и какая медицина нам нужн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33"/>
                </a:solidFill>
                <a:latin typeface="Times New Roman"/>
              </a:rPr>
              <a:t>Право на охрану здоровь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Охрана здоровья граждан - это совокупность мер политического, экономического, правового, социального, культурного, научного, медицинского, санитарно-гигиенического и противоэпидемического характера, направленных на сохранение и укрепление физического и психического здоровья каждого человека, поддержание его долголетней активной жизни, предоставление ему медицинской помощи в случае утраты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Гражданам Российской Федерации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гарантируется право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на охрану здоровья в соответствии с Конституцией РФ, общепризнанными принципами и международными нормами и международными договорами Российской Федерации, Конституциями (уставами) субъектов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(«Основы законодательства РФ об охране здоровья граждан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Times New Roman"/>
              </a:rPr>
              <a:t>РОССИЙСКИЕ ПРОБЛЕМЫ</a:t>
            </a:r>
            <a:br>
              <a:rPr sz="3800"/>
            </a:br>
            <a:r>
              <a:rPr b="0" lang="ru-RU" sz="3800" spc="-1" strike="noStrike">
                <a:solidFill>
                  <a:srgbClr val="990033"/>
                </a:solidFill>
                <a:latin typeface="Times New Roman"/>
              </a:rPr>
              <a:t>удовлетворенность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По данным </a:t>
            </a: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ВЦИОМ 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в 2006 го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49 % граждан - не довольны качеством М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52 % - не довольны укомплектованность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54 % - не довольны отношением к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Times New Roman"/>
              </a:rPr>
              <a:t>РОССИЙСКИЕ ПРОБЛЕМЫ</a:t>
            </a:r>
            <a:br>
              <a:rPr sz="3800"/>
            </a:br>
            <a:r>
              <a:rPr b="0" lang="ru-RU" sz="3800" spc="-1" strike="noStrike">
                <a:solidFill>
                  <a:srgbClr val="990033"/>
                </a:solidFill>
                <a:latin typeface="Times New Roman"/>
              </a:rPr>
              <a:t>жалобы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По данным ФФОМС в 2006 год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117801 жалоб в ОМ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00"/>
                </a:solidFill>
                <a:latin typeface="Arial"/>
              </a:rPr>
              <a:t>30 % - на обеспеченность ЛС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00"/>
                </a:solidFill>
                <a:latin typeface="Arial"/>
              </a:rPr>
              <a:t>27 % - взимание денег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00"/>
                </a:solidFill>
                <a:latin typeface="Arial"/>
              </a:rPr>
              <a:t>10% - обеспечение полисами ОМС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00"/>
                </a:solidFill>
                <a:latin typeface="Arial"/>
              </a:rPr>
              <a:t>8,7 % - выбор ЛП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0033"/>
                </a:solidFill>
                <a:latin typeface="Arial"/>
              </a:rPr>
              <a:t>70% признано обоснованны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3300"/>
                </a:solidFill>
                <a:latin typeface="Arial"/>
              </a:rPr>
              <a:t>Сегодня в «Лигу пациентов» поступает 100 обращений в ден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Качество медпомощи-1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ФФОМС: «В ходе проведения экспертизы качества медицинской помощи в 2006 году выявлено 4,8 млн. нарушений, или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6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нарушений на каждые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10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роведенных (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60%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- прим. мое) - экспертиз (2005 г. - 3,6 млн. или 4,8 нарушений на 10 проведенных экспертиз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сновными нарушениями, являются: необоснованное завышение объема и стоимости оказанной медицинской помощи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(53,7%),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оказание медицинской помощи ненадлежащего качества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782, 4 тыс.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(16,3%)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6,5 млн. дефектов медпомощи без оценок поликлин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Качество медпомощи-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Вскрытие трупов больных четырех крупных больниц Москвы показало, что в 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21,6 % случае диагноз, установленный при жизни, был неправильным»(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Акопов В.И., Маслов Е.Н. Право в медицине. Москва. Приоритет-стандарт. 2002 г. С. 128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1/3 неверно установленных диагнозов,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12 % смертей от недиагностированной пневмонии (Данные из выступления академика А. Г. Чучалина 1 ноября 2006 г. на I Национальном конгрессе терапевто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США – от 80 до 100 тысяч смертей по вине врач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50 000 смертей в России из-за врачеб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Прогно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РФ резко меняется общественное мнение об отсутствии в здравоохранении денег, что многие годы сдерживало конфлик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Количество, а главное – качество жалоб и исков будет увеличивать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величатся и суммы присуждаемых исков: в августе 2006 г. в Москве вынесены три решения о компенсации морального вреда на сумму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750 000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1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00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000 руб.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Основные причины недовольства пациент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086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езко снизились качество и доступность медицинской помощ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Деформировалась врачебная этика и деонтоло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и эт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ациент привык и ожидает бесплатной помощи, но почти за все уже нужно плат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Растет потребительское отношение пациента к медицине, поскольку он наделен реальными правами вплоть до прав потреб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8692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Times New Roman"/>
              </a:rPr>
              <a:t>Устойчивые </a:t>
            </a:r>
            <a:r>
              <a:rPr b="1" lang="ru-RU" sz="2900" spc="-1" strike="noStrike">
                <a:solidFill>
                  <a:srgbClr val="990033"/>
                </a:solidFill>
                <a:latin typeface="Times New Roman"/>
              </a:rPr>
              <a:t>мифы</a:t>
            </a:r>
            <a:r>
              <a:rPr b="0" lang="ru-RU" sz="2900" spc="-1" strike="noStrike">
                <a:solidFill>
                  <a:srgbClr val="990033"/>
                </a:solidFill>
                <a:latin typeface="Times New Roman"/>
              </a:rPr>
              <a:t>, которые мешают врачам и системе быть более эффективными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Медицина – искусство, а не технолог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Здравоохранению не хватает дене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Искусство или технология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62828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скусство – т</a:t>
            </a: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ворческое отражение, воспроизведение действительности в художественных образах или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 мастерство, ум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Технология – </a:t>
            </a:r>
            <a:r>
              <a:rPr b="0" lang="ru-RU" sz="2400" spc="-1" strike="noStrike">
                <a:solidFill>
                  <a:srgbClr val="993300"/>
                </a:solidFill>
                <a:latin typeface="Verdana"/>
              </a:rPr>
              <a:t>совокупность производственных методов и процессов в определённой отрасли производства, а также научное описание способов производ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звестная, научно и статистически обоснованная  последовательность действий, методов и процессов, приводящая, как правило, к одинаковым результатам –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ТАНДА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Здравоохранению не хватает денег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В России в 2 раза больше койко-мест, чем, в среднем, по Европе, и лежат на них в 2 раза доль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у ЛПУ десятки независимых источников финанс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90 % дорогостоящего оборудования простаи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– такие богат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Или мы не умеем управлять ресурс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Мы не умеем управлять ресурсами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Парадокс: при кажущемся богатстве ресурсов Россия, по данным ВОЗ, на 130-м месте в мире по уровню медицинской помощ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Нужна структурная реформ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Times New Roman"/>
              </a:rPr>
              <a:t>ПРАВО НА ОХРАНУ ЗДОРОВЬЯ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6633"/>
                </a:solidFill>
                <a:latin typeface="Arial"/>
              </a:rPr>
              <a:t>Отрас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Международное прав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Конституционное прав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Административное пра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Гражданское пра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Уголовное пра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Врачебная ошибка – это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673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"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ледствие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добросовестного заблуждения врача при выполнении им профессиональных обязанностей. Главное отличие ошибки от других дефектов врачебной деятельности - исключение умышленных преступных действий - небрежности, халатности, а также невежества". </a:t>
            </a:r>
            <a:br>
              <a:rPr sz="2000"/>
            </a:b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(И.В. Давыдовский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шибка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врача при исполнении своих профессиональных обязанностей, являющаяся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ледствием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добросовестного заблуждения и не содержащие состава преступления или признаков проступ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неправильное действие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(или бездействие) врача, имеющее в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своей основе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несовершенство современной науки, незнание или неспособность использовать имеющиеся знания на практ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неправильное определение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болезни врачом (диагностическая ошибка) или неправильное врачебное мероприятие (операция, назначение лекарства и др.),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обусловленные добросовестным заблуждением вра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Что же такое ошибка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Толковый словарь русского языка Ушакова:</a:t>
            </a:r>
            <a:r>
              <a:rPr b="0" lang="ru-RU" sz="2400" spc="-1" strike="noStrike">
                <a:solidFill>
                  <a:srgbClr val="3f592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ОШИ'БКА, </a:t>
            </a:r>
            <a:r>
              <a:rPr b="0" lang="ru-RU" sz="2400" spc="-1" strike="noStrike">
                <a:solidFill>
                  <a:srgbClr val="fe2602"/>
                </a:solidFill>
                <a:latin typeface="Arial"/>
              </a:rPr>
              <a:t>Неправильность в действиях</a:t>
            </a: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, поступках, высказываниях, мыслях, погрешность. Ошибка в чем-н. Допустить ошибку. Вкралась о. Орфографическая о. Пишет с грубыми ошибками. Хронологическая ошибка. Судебная о. Сделать что-н. по ошибке или с ошибкою </a:t>
            </a:r>
            <a:r>
              <a:rPr b="0" lang="ru-RU" sz="2400" spc="-1" strike="noStrike">
                <a:solidFill>
                  <a:srgbClr val="fe2602"/>
                </a:solidFill>
                <a:latin typeface="Arial"/>
              </a:rPr>
              <a:t>(нечаянно, непреднамеренно, </a:t>
            </a:r>
            <a:r>
              <a:rPr b="0" lang="ru-RU" sz="2800" spc="-1" strike="noStrike">
                <a:solidFill>
                  <a:srgbClr val="fe2602"/>
                </a:solidFill>
                <a:latin typeface="Arial"/>
              </a:rPr>
              <a:t>случайно</a:t>
            </a:r>
            <a:r>
              <a:rPr b="0" lang="ru-RU" sz="2400" spc="-1" strike="noStrike">
                <a:solidFill>
                  <a:srgbClr val="fe2602"/>
                </a:solidFill>
                <a:latin typeface="Arial"/>
              </a:rPr>
              <a:t>).</a:t>
            </a: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 Он не делал ни одной ошибки в письме. Гегель. Гораздо благороднее сознать свою ошибку, чем довести дело до непоправимого. Л. Толст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КАЗУС (Случай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уголовная ответственность за </a:t>
            </a:r>
            <a:r>
              <a:rPr b="0" lang="ru-RU" sz="2000" spc="-1" strike="noStrike">
                <a:solidFill>
                  <a:srgbClr val="fe2602"/>
                </a:solidFill>
                <a:latin typeface="Arial"/>
              </a:rPr>
              <a:t>невиновное</a:t>
            </a: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 причинение вреда, не допускается (ч.2 ст. 5 УК РФ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Ст. 28 УК РФ. Невиновное причинение вреда</a:t>
            </a:r>
            <a:br>
              <a:rPr sz="2000"/>
            </a:b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1. Деяние признается совершенным невиновно, если лицо, его совершившее, </a:t>
            </a:r>
            <a:r>
              <a:rPr b="0" lang="ru-RU" sz="2000" spc="-1" strike="noStrike">
                <a:solidFill>
                  <a:srgbClr val="fe2602"/>
                </a:solidFill>
                <a:latin typeface="Arial"/>
              </a:rPr>
              <a:t>не осознавало</a:t>
            </a: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 и по обстоятельствам дела </a:t>
            </a:r>
            <a:r>
              <a:rPr b="0" lang="ru-RU" sz="2000" spc="-1" strike="noStrike">
                <a:solidFill>
                  <a:srgbClr val="fe2602"/>
                </a:solidFill>
                <a:latin typeface="Arial"/>
              </a:rPr>
              <a:t>не могло осознавать</a:t>
            </a: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 общественной опасности своих действий (бездействия) либо </a:t>
            </a:r>
            <a:r>
              <a:rPr b="0" lang="ru-RU" sz="2000" spc="-1" strike="noStrike">
                <a:solidFill>
                  <a:srgbClr val="fe2602"/>
                </a:solidFill>
                <a:latin typeface="Arial"/>
              </a:rPr>
              <a:t>не предвидело возможности наступления</a:t>
            </a: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 общественно опасных последствий и по обстоятельствам дела </a:t>
            </a:r>
            <a:r>
              <a:rPr b="0" lang="ru-RU" sz="2000" spc="-1" strike="noStrike">
                <a:solidFill>
                  <a:srgbClr val="fe2602"/>
                </a:solidFill>
                <a:latin typeface="Arial"/>
              </a:rPr>
              <a:t>не должно было или не могло их предвид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2. Деяние признается также совершенным невиновно, если лицо, его совершившее, </a:t>
            </a:r>
            <a:r>
              <a:rPr b="0" lang="ru-RU" sz="2000" spc="-1" strike="noStrike">
                <a:solidFill>
                  <a:srgbClr val="fe2602"/>
                </a:solidFill>
                <a:latin typeface="Arial"/>
              </a:rPr>
              <a:t>хотя и предвидело возможность наступления</a:t>
            </a: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 общественно опасных последствий своих действий (бездействия), но не могло предотвратить эти последствия </a:t>
            </a:r>
            <a:r>
              <a:rPr b="0" lang="ru-RU" sz="2000" spc="-1" strike="noStrike">
                <a:solidFill>
                  <a:srgbClr val="fe2602"/>
                </a:solidFill>
                <a:latin typeface="Arial"/>
              </a:rPr>
              <a:t>в силу несоответствия своих психофизиологических качеств требованиям экстремальных условий или нервно-психическим перегруз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990033"/>
                </a:solidFill>
                <a:latin typeface="Times New Roman"/>
              </a:rPr>
              <a:t>Врачебная ошибка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0f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это </a:t>
            </a:r>
            <a:r>
              <a:rPr b="0" lang="ru-RU" sz="2400" spc="-1" strike="noStrike">
                <a:solidFill>
                  <a:srgbClr val="fe2602"/>
                </a:solidFill>
                <a:latin typeface="Arial"/>
              </a:rPr>
              <a:t>неправильное действие</a:t>
            </a: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 (бездействие) при оказании медицинской помощи (дефект медицинской помощи), </a:t>
            </a:r>
            <a:r>
              <a:rPr b="0" lang="ru-RU" sz="2400" spc="-1" strike="noStrike">
                <a:solidFill>
                  <a:srgbClr val="fe2602"/>
                </a:solidFill>
                <a:latin typeface="Arial"/>
              </a:rPr>
              <a:t>совершенное врачом в состоянии обоснованной уверенности в правильности</a:t>
            </a: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 своих действий, притом, что по обстоятельствам дела он не мог осознавать неправильности этого действия (бездействия), не предвидел возможности наступления общественно опасных последствий и по обстоятельствам дела не должен был или не мог их предви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e2602"/>
                </a:solidFill>
                <a:latin typeface="Times New Roman"/>
              </a:rPr>
              <a:t>Правильность</a:t>
            </a:r>
            <a:r>
              <a:rPr b="0" lang="ru-RU" sz="3400" spc="-1" strike="noStrike">
                <a:solidFill>
                  <a:srgbClr val="990033"/>
                </a:solidFill>
                <a:latin typeface="Times New Roman"/>
              </a:rPr>
              <a:t> действий - основной критерий невиновности врача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Медицинское вмешательство (помощь, услуга) </a:t>
            </a:r>
            <a:r>
              <a:rPr b="1" lang="ru-RU" sz="2400" spc="-1" strike="noStrike">
                <a:solidFill>
                  <a:srgbClr val="6c0f00"/>
                </a:solidFill>
                <a:latin typeface="Arial"/>
              </a:rPr>
              <a:t>надлежащего качества</a:t>
            </a: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 (качественная медицинская помощь) – своевременное медицинское вмешательство, </a:t>
            </a:r>
            <a:r>
              <a:rPr b="0" lang="ru-RU" sz="2400" spc="-1" strike="noStrike">
                <a:solidFill>
                  <a:srgbClr val="fe2602"/>
                </a:solidFill>
                <a:latin typeface="Arial"/>
              </a:rPr>
              <a:t>соответствующее</a:t>
            </a: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 обязательным требованиям, предусмотренным законом либо в установленном им порядке, или условиям договора, или целям, для которых услуга такого рода обычно оказывается, или целям, о которых исполнитель (медицинский работник) был поставлен в известность пациентом (застрахованным) при заключении договора, или описанию медицинской технологии оказания медицинской услуги, стандарту оказания медицинской услу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5925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3f5925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т. 309 ГК РФ и преамбула ФЗ РФ «О защите прав потребител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33"/>
                </a:solidFill>
                <a:latin typeface="Times New Roman"/>
              </a:rPr>
              <a:t>Дефект (недостаток) медуслуги (помощи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c0f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это несоответствие медицинской помощи (услуги, работы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обязательным требованиям, предусмотренным закон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требованиям нормативных актов – постановлений, приказов, стандартов, правил, инструкций, руководств, положений, наставлений и директи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требованиям административных регла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требованиям инструкций по медицинскому применению лекарственных средств и изделий медицинского назна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условиям догово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обычаям делового оборота и обычно предъявляемым требованиям в сфере здравоохра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требованиям безопасности медицинской услуги (помощи, работ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c0f00"/>
                </a:solidFill>
                <a:latin typeface="Arial"/>
              </a:rPr>
              <a:t>целям, для которых данная медицинская помощь (услуга, работа) обычно оказывается (выполняется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Всегда виновата … болезнь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Ст. 124 УК РФ. Неоказание помощи боль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e2602"/>
                </a:solidFill>
                <a:latin typeface="Arial"/>
              </a:rPr>
              <a:t>Неоказание</a:t>
            </a: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 помощи больному без уважительных причин лицом, обязанным ее оказывать в соответствии с законом или со специальным правилом, </a:t>
            </a:r>
            <a:r>
              <a:rPr b="0" lang="ru-RU" sz="2400" spc="-1" strike="noStrike">
                <a:solidFill>
                  <a:srgbClr val="fe2602"/>
                </a:solidFill>
                <a:latin typeface="Arial"/>
              </a:rPr>
              <a:t>если это повлекло</a:t>
            </a: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 по неосторожности причинение средней тяжести вреда здоровью больного (или тяжкого вреда, или смерт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Ст. 1064 ГК РФ: Лицо, причинившее вред, освобождается</a:t>
            </a:r>
            <a:r>
              <a:rPr b="0" lang="ru-RU" sz="2400" spc="-1" strike="noStrike">
                <a:solidFill>
                  <a:srgbClr val="fe260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от возмещения вреда, если докажет, что вред причинен не по его вин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6c0f00"/>
                </a:solidFill>
                <a:latin typeface="Arial"/>
              </a:rPr>
              <a:t>а по вине болезни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Times New Roman"/>
              </a:rPr>
              <a:t>Нарушение логики в  ст. 124 УК РФ «Неоказание помощи больному»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Бездействие (отсутствие должного действия), </a:t>
            </a:r>
            <a:r>
              <a:rPr b="0" lang="ru-RU" sz="2400" spc="-1" strike="noStrike">
                <a:solidFill>
                  <a:srgbClr val="fe2602"/>
                </a:solidFill>
                <a:latin typeface="Arial"/>
              </a:rPr>
              <a:t>повлекшее </a:t>
            </a: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за собой … смер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Отсутствие медицинской помощи -</a:t>
            </a:r>
            <a:br>
              <a:rPr sz="2400"/>
            </a:b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причина смерт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Что было бы, </a:t>
            </a:r>
            <a:r>
              <a:rPr b="0" lang="ru-RU" sz="2400" spc="-1" strike="noStrike">
                <a:solidFill>
                  <a:srgbClr val="fe2602"/>
                </a:solidFill>
                <a:latin typeface="Arial"/>
              </a:rPr>
              <a:t>если бы</a:t>
            </a: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 помощь оказывалась правильно? – </a:t>
            </a:r>
            <a:r>
              <a:rPr b="1" lang="ru-RU" sz="2400" spc="-1" strike="noStrike">
                <a:solidFill>
                  <a:srgbClr val="6c0f00"/>
                </a:solidFill>
                <a:latin typeface="Arial"/>
              </a:rPr>
              <a:t>предполо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c0f00"/>
                </a:solidFill>
                <a:latin typeface="Arial"/>
              </a:rPr>
              <a:t>Эксперты: при надлежащей помощи положительной исход не исключа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c0f00"/>
                </a:solidFill>
                <a:latin typeface="Arial"/>
              </a:rPr>
              <a:t>Неустранимые сомнения трактуются в пользу обвиняемого… Дело закрыто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«Правильная» логи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"/>
              </a:rPr>
              <a:t>При сепсисе не дали антибиот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2602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e2602"/>
                </a:solidFill>
                <a:latin typeface="Arial"/>
              </a:rPr>
              <a:t>Отсутствие</a:t>
            </a:r>
            <a:r>
              <a:rPr b="0" lang="ru-RU" sz="2800" spc="-1" strike="noStrike">
                <a:solidFill>
                  <a:srgbClr val="6c0f00"/>
                </a:solidFill>
                <a:latin typeface="Arial"/>
              </a:rPr>
              <a:t> антибиотик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f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6c0f00"/>
                </a:solidFill>
                <a:latin typeface="Arial"/>
              </a:rPr>
              <a:t>&gt; </a:t>
            </a:r>
            <a:r>
              <a:rPr b="0" lang="ru-RU" sz="2800" spc="-1" strike="noStrike">
                <a:solidFill>
                  <a:srgbClr val="fe2602"/>
                </a:solidFill>
                <a:latin typeface="Arial"/>
              </a:rPr>
              <a:t>отсутствие</a:t>
            </a:r>
            <a:r>
              <a:rPr b="0" lang="ru-RU" sz="2800" spc="-1" strike="noStrike">
                <a:solidFill>
                  <a:srgbClr val="6c0f00"/>
                </a:solidFill>
                <a:latin typeface="Arial"/>
              </a:rPr>
              <a:t> необходимых веществ в организме для борьбы с инфек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f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6c0f00"/>
                </a:solidFill>
                <a:latin typeface="Arial"/>
              </a:rPr>
              <a:t>&gt; </a:t>
            </a:r>
            <a:r>
              <a:rPr b="0" lang="ru-RU" sz="2800" spc="-1" strike="noStrike">
                <a:solidFill>
                  <a:srgbClr val="fe2602"/>
                </a:solidFill>
                <a:latin typeface="Arial"/>
              </a:rPr>
              <a:t>отсутствие</a:t>
            </a:r>
            <a:r>
              <a:rPr b="0" lang="ru-RU" sz="2800" spc="-1" strike="noStrike">
                <a:solidFill>
                  <a:srgbClr val="6c0f00"/>
                </a:solidFill>
                <a:latin typeface="Arial"/>
              </a:rPr>
              <a:t> способности организма нормально функциониро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f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6c0f00"/>
                </a:solidFill>
                <a:latin typeface="Arial"/>
              </a:rPr>
              <a:t>&gt; </a:t>
            </a:r>
            <a:r>
              <a:rPr b="0" lang="ru-RU" sz="2800" spc="-1" strike="noStrike">
                <a:solidFill>
                  <a:srgbClr val="fe2602"/>
                </a:solidFill>
                <a:latin typeface="Arial"/>
              </a:rPr>
              <a:t>отсутствие</a:t>
            </a:r>
            <a:r>
              <a:rPr b="0" lang="ru-RU" sz="2800" spc="-1" strike="noStrike">
                <a:solidFill>
                  <a:srgbClr val="6c0f00"/>
                </a:solidFill>
                <a:latin typeface="Arial"/>
              </a:rPr>
              <a:t>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2602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e2602"/>
                </a:solidFill>
                <a:latin typeface="Arial"/>
              </a:rPr>
              <a:t>&gt; </a:t>
            </a:r>
            <a:r>
              <a:rPr b="0" lang="ru-RU" sz="2800" spc="-1" strike="noStrike">
                <a:solidFill>
                  <a:srgbClr val="fe2602"/>
                </a:solidFill>
                <a:latin typeface="Arial"/>
              </a:rPr>
              <a:t>прямая причинно-следственная связ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Times New Roman"/>
              </a:rPr>
              <a:t>Об административной ответственности медицинского персонала: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c0f00"/>
                </a:solidFill>
                <a:latin typeface="Arial"/>
              </a:rPr>
              <a:t>Решение 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c0f00"/>
                </a:solidFill>
                <a:latin typeface="Arial"/>
              </a:rPr>
              <a:t>Перенос тяжести ответственности за </a:t>
            </a:r>
            <a:r>
              <a:rPr b="0" lang="ru-RU" sz="2600" spc="-1" strike="noStrike">
                <a:solidFill>
                  <a:srgbClr val="fe2602"/>
                </a:solidFill>
                <a:latin typeface="Arial"/>
              </a:rPr>
              <a:t>неосторожные</a:t>
            </a:r>
            <a:r>
              <a:rPr b="0" lang="ru-RU" sz="2600" spc="-1" strike="noStrike">
                <a:solidFill>
                  <a:srgbClr val="6c0f00"/>
                </a:solidFill>
                <a:latin typeface="Arial"/>
              </a:rPr>
              <a:t> деяния врачей из УК РФ в КОАП Р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c0f00"/>
                </a:solidFill>
                <a:latin typeface="Arial"/>
              </a:rPr>
              <a:t>Ужесточение правоприменительной практики за преступления с косвенным умыслом, - если лицо </a:t>
            </a:r>
            <a:r>
              <a:rPr b="0" lang="ru-RU" sz="2600" spc="-1" strike="noStrike">
                <a:solidFill>
                  <a:srgbClr val="fe2602"/>
                </a:solidFill>
                <a:latin typeface="Arial"/>
              </a:rPr>
              <a:t>осознавало</a:t>
            </a:r>
            <a:r>
              <a:rPr b="0" lang="ru-RU" sz="2600" spc="-1" strike="noStrike">
                <a:solidFill>
                  <a:srgbClr val="6c0f00"/>
                </a:solidFill>
                <a:latin typeface="Arial"/>
              </a:rPr>
              <a:t> общественную опасность своих действий (бездействия), </a:t>
            </a:r>
            <a:r>
              <a:rPr b="0" lang="ru-RU" sz="2600" spc="-1" strike="noStrike">
                <a:solidFill>
                  <a:srgbClr val="fe2602"/>
                </a:solidFill>
                <a:latin typeface="Arial"/>
              </a:rPr>
              <a:t>предвидело</a:t>
            </a:r>
            <a:r>
              <a:rPr b="0" lang="ru-RU" sz="2600" spc="-1" strike="noStrike">
                <a:solidFill>
                  <a:srgbClr val="6c0f00"/>
                </a:solidFill>
                <a:latin typeface="Arial"/>
              </a:rPr>
              <a:t> возможность наступления общественно опасных последствий, не желало, но </a:t>
            </a:r>
            <a:r>
              <a:rPr b="0" lang="ru-RU" sz="2600" spc="-1" strike="noStrike">
                <a:solidFill>
                  <a:srgbClr val="fe2602"/>
                </a:solidFill>
                <a:latin typeface="Arial"/>
              </a:rPr>
              <a:t>сознательно допускало</a:t>
            </a:r>
            <a:r>
              <a:rPr b="0" lang="ru-RU" sz="2600" spc="-1" strike="noStrike">
                <a:solidFill>
                  <a:srgbClr val="6c0f00"/>
                </a:solidFill>
                <a:latin typeface="Arial"/>
              </a:rPr>
              <a:t> эти последствия либо </a:t>
            </a:r>
            <a:r>
              <a:rPr b="0" lang="ru-RU" sz="2600" spc="-1" strike="noStrike">
                <a:solidFill>
                  <a:srgbClr val="fe2602"/>
                </a:solidFill>
                <a:latin typeface="Arial"/>
              </a:rPr>
              <a:t>относилось</a:t>
            </a:r>
            <a:r>
              <a:rPr b="0" lang="ru-RU" sz="2600" spc="-1" strike="noStrike">
                <a:solidFill>
                  <a:srgbClr val="6c0f00"/>
                </a:solidFill>
                <a:latin typeface="Arial"/>
              </a:rPr>
              <a:t> к ним </a:t>
            </a:r>
            <a:r>
              <a:rPr b="0" lang="ru-RU" sz="2600" spc="-1" strike="noStrike">
                <a:solidFill>
                  <a:srgbClr val="fe2602"/>
                </a:solidFill>
                <a:latin typeface="Arial"/>
              </a:rPr>
              <a:t>безразлично </a:t>
            </a:r>
            <a:r>
              <a:rPr b="0" lang="ru-RU" sz="2600" spc="-1" strike="noStrike">
                <a:solidFill>
                  <a:srgbClr val="6c0f00"/>
                </a:solidFill>
                <a:latin typeface="Arial"/>
              </a:rPr>
              <a:t>(ч.3 ст. 25 УК РФ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Международные нормы пра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татья 12 МПЭСКП. ПРАВО НА ВЫСШИЙ ДОСТИЖИМЫЙ УРОВЕНЬ ЗДОРО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1. Участвующие в настоящем Пакте государства признают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право каждого человека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на наивысший достижимый уровень физического и психического здоров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2.  Меры, которые должны быть приняты участвующими в настоящем Пакте государствами для полного осуществления этого права, включают мероприятия, необходимые д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а) обеспечения сокращения мертворождаемости и детской смертности и здорового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b) улучшения всех аспектов гигиены внешней среды и гигиены труда в промышле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)  предупреждения и лечения эпидемических, эндемических, профессиональных и иных болезней и борьбы с ни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d) создание условий, которые обеспечивали бы всем медицинскую помощь и медицинский уход в случа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Новая этика – партнерство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5280" y="1844640"/>
            <a:ext cx="74534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90 %</a:t>
            </a: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конфликтов между пациентами и врачами возникает из-за нежелания или неумения врача разговаривать с пациентом, объяснять ему что-либ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Пациент, который чего-то не понял, отнимет позже у врача в несколько раз больше времени и нервов, а у государства ресурсов, если выживе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СПАСИБО ЗА ВНИМАНИЕ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f00"/>
                </a:solidFill>
                <a:latin typeface="Arial"/>
              </a:rPr>
              <a:t>Контак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0f00"/>
                </a:solidFill>
                <a:latin typeface="Arial"/>
              </a:rPr>
              <a:t>http://openmed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f00"/>
                </a:solidFill>
                <a:latin typeface="Arial"/>
              </a:rPr>
              <a:t>open@openmed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f00"/>
                </a:solidFill>
                <a:latin typeface="Arial"/>
              </a:rPr>
              <a:t>8 (985)-</a:t>
            </a:r>
            <a:r>
              <a:rPr b="0" lang="ru-RU" sz="2800" spc="-1" strike="noStrike">
                <a:solidFill>
                  <a:srgbClr val="6c0f00"/>
                </a:solidFill>
                <a:latin typeface="Arial"/>
              </a:rPr>
              <a:t>969-75-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c0f00"/>
                </a:solidFill>
                <a:latin typeface="Arial"/>
              </a:rPr>
              <a:t>8 (495)-431-48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Конституционные норм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ч.2 ст. 7: «В Российской Федерации охраняются труд и здоровье людей…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ч.1 ст. 41: «Каждый имеет право на охрану здоровья и медицинскую помощь»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ч.3 ст. 41: «Сокрытие должностными лицами фактов и обстоятельств, создающих угрозу для жизни и здоровья людей, влечет за собой ответственность в соответствии с федеральным законом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990033"/>
                </a:solidFill>
                <a:latin typeface="Times New Roman"/>
              </a:rPr>
              <a:t>Нормы гражданского пра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Обязатель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Делик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Медицинские услуг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Пациент – потребител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Выбор врача или медорганиз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Информированное добровольное согласие: отказ, согласие, риски, прогнозы, альтернативы, -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догов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990033"/>
                </a:solidFill>
                <a:latin typeface="Times New Roman"/>
              </a:rPr>
              <a:t>Административные нормы</a:t>
            </a:r>
            <a:endParaRPr b="0" lang="en-US" sz="5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Обязанность врачей и ЛПУ оказывать медицинскую помощь в соответствии с законом, приказами, лицензионными требованиями, стандарт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Только разрешенные методы, Л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33"/>
                </a:solidFill>
                <a:latin typeface="Times New Roman"/>
              </a:rPr>
              <a:t>Нормы уголовного законодатель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ичинение смерти по неосторожности (ст. 109 УК Р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ричинение тяжкого вреда здоровью по неосторожности – 118 УК Р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неоказание помощи больному (124 УК РФ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оставление в опасности (125 УК Р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Отказ от предоставления гражданину информации (140 УК Р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окрытие информации об обстоятельствах, создающих опасность для жизни или здоровья людей (ст. 237 УК Р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нарушение требований безопасности для жизни и здоровья потребителя (238 УК Р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алатность, то есть неисполнение или ненадлежащее исполнение должностным лицом своих обязанностей (ст. 293 УК РФ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Специальные нор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0033"/>
                </a:solidFill>
                <a:latin typeface="Times New Roman"/>
              </a:rPr>
              <a:t>Около 40 федеральных и 350 законов субъектов РФ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Основы законодательства РФ «Об охране здоровья граждан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ФЗ РФ «О медицинском страховании граждан в РФ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 защите прав потребителей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 лекарственных средствах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 психиатрической помощи и гарантиях прав граждан при ее оказан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«О санитарно-эпидемиологическом благополучии населения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И др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2:12:25Z</dcterms:created>
  <dc:creator>МУРЗИК</dc:creator>
  <dc:description/>
  <dc:language>en-US</dc:language>
  <cp:lastModifiedBy>EA</cp:lastModifiedBy>
  <dcterms:modified xsi:type="dcterms:W3CDTF">2009-06-29T06:25:55Z</dcterms:modified>
  <cp:revision>56</cp:revision>
  <dc:subject/>
  <dc:title>НОВЫЕ ТРЕБОВАНИЯ К ПРОФЕССИИ ВРАЧА НА СОВРЕМЕННОМ ЭТАПЕ</dc:title>
</cp:coreProperties>
</file>