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2D3-1EF0-41CC-A418-C4F8BBFA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6CA-3D0A-40DE-B9BD-6E2F96E9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A1B-493F-45C7-9E04-EC0BA283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9F8-5AFB-4ECD-BF11-5E11894D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DC6-5BF0-427B-9AC3-8879BF3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1E7-F285-4B78-8FB7-0714B48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AB8-F390-4673-9808-10F6E1A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5A9-0E65-44B3-BBA2-5ED34E9E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589-402C-4FA4-B318-B2A78F1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578-145D-42D9-A465-6110EC71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E75-7834-45DC-A376-BD0192B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12B-F825-40AE-A71D-232A372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6D08-10A1-442E-8FD3-51C46BF4D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озможно ли сотрудничество с табачным бизнесом в деле «улучшения»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«общественного здоровья»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й Евгеньевич Шаба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абочая группа по проблемам потребления табачных изделий (создана при МЗиСР 31.07.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0440" y="1700280"/>
            <a:ext cx="383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Рамочная Конвенция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по Борьбе против Табака ВОЗ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Статья 5.3 Общие обязательства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разработке и осуществлении своей политики по борьбе против табака действовать таким образом, чтобы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защитить свою политику от воздействия коммерческих и других корпоративных интересов табачной промышлен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Табак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уникальный потребительский продукт, который сегодня не мог бы быть внедрен на рынок согласно любым известным потребительским нормам, если бы не был уже широко распространен среди разнообразных групп населения, имеющих значительную к нему привяз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Табак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единственный распространяемый легально продукт, который причиняет вред при применении по прямому назна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Табак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о легальный нарко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армакологические и поведенческие процессы, определяющие зависимость от табака, те же, что определяют зависимость от героина и кока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Reports of the Surgeon Gener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Reducing the Health Consequences of Smoking: 25 Years of Progress: A Report of the Surgeon General: 198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Один из способов выживания табач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вая наличие проблемы активно участвовать в обсуждении путей вы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табачные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ларируют благие на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(и, по сути, единственная цель) – прибыль акцион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Пути решения проблемы курения в России, разработанные при активном участии транснациональных табачных комп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РФ от 21 июля 2005 г. №107-ФЗ «О внесении изменений в часть вторую Налогового кодекса Российской Федерации» (действует с 1-го января 2006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Российской Федерации от 1 декабря 2004 г. №148-ФЗ «О внесении изменений в статьи 3 и 6 Федерального закона "Об ограничении курения таба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З №38 от 13 марта 2006 г. «О рекла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Круглый стол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«Проблемы и последствия присоединения России к РКБТ ВОЗ»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ая Палата РФ, 16 ноября 200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участ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сёнов В.К. – БАТ-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ичева Т.С. – «Твой выб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ридова Г.Н. – отдел табачной промышленности Минсельх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иппов С.Л. – «Табакпр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кина Н.В. – Совет по вопросам развития табачной 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3:03:45Z</dcterms:created>
  <dc:creator>Alexey</dc:creator>
  <dc:description/>
  <dc:language>en-US</dc:language>
  <cp:lastModifiedBy>EA</cp:lastModifiedBy>
  <dcterms:modified xsi:type="dcterms:W3CDTF">2009-06-29T06:33:55Z</dcterms:modified>
  <cp:revision>7</cp:revision>
  <dc:subject/>
  <dc:title>Слайд 1</dc:title>
</cp:coreProperties>
</file>