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45F-788A-453F-8FD9-838083D9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816-65EC-4C9E-8A8B-AC47A470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F1F-1857-470F-91DA-5A718B3E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A9E-FC45-4D38-84BB-E7F8B006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DF3-2340-4298-9E83-3F65EF9D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417-AA28-4BC2-8955-A6878A02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21A-7132-42C9-8D33-F85DBA0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9E2-7819-4155-BB1C-623EB98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BEE-E19E-4710-B57A-23193C8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E3B-1F3C-4A9E-899B-8115667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029-CBE8-4FA3-A207-B32ED9F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05A-F8E8-4F24-94FB-87CD3F8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A67-98E4-4FF1-88BD-345433258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belfish.altavista.com/babelfish/trurl_pagecontent?lp=ru_en&amp;trurl=http%3A%2F%2Frus.postimees.ee%2F080107%2Fglavnaja%2Festonija%2F10252_foto.php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lomon.su/netcat_files/272_4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reatebrand.ru/images/zap/image_596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468360" y="1700280"/>
            <a:ext cx="8280360" cy="4176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771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Кампании в СМИ по продвижению здорового образа жизни и профилактике социально опасного поведения</a:t>
            </a:r>
            <a:br>
              <a:rPr sz="3900"/>
            </a:br>
            <a:r>
              <a:rPr b="1" lang="ru-RU" sz="3200" spc="-1" strike="noStrike">
                <a:solidFill>
                  <a:srgbClr val="224472"/>
                </a:solidFill>
                <a:latin typeface="Arial"/>
              </a:rPr>
              <a:t>теория и практ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4211640" y="620640"/>
            <a:ext cx="4606920" cy="99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4"/>
          <p:cNvSpPr/>
          <p:nvPr/>
        </p:nvSpPr>
        <p:spPr>
          <a:xfrm>
            <a:off x="611280" y="6093000"/>
            <a:ext cx="6048360" cy="3603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472"/>
                </a:solidFill>
                <a:latin typeface="Arial"/>
              </a:rPr>
              <a:t>www.focus-medi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312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32"/>
          <p:cNvSpPr/>
          <p:nvPr/>
        </p:nvSpPr>
        <p:spPr>
          <a:xfrm>
            <a:off x="252360" y="1989000"/>
            <a:ext cx="4606920" cy="3384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322200" y="2349360"/>
            <a:ext cx="432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дупреждение о последствиях употребления наркотических веществ. 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мпания проводится в Эстонии в школах, общественном транспорте, на телевидении и в Интернете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социальных кампаний в СМИ</a:t>
            </a: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офилактика наркопотреб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6" descr="11_5030"/>
          <p:cNvPicPr/>
          <p:nvPr/>
        </p:nvPicPr>
        <p:blipFill>
          <a:blip r:embed="rId2"/>
          <a:stretch/>
        </p:blipFill>
        <p:spPr>
          <a:xfrm>
            <a:off x="4965840" y="1989000"/>
            <a:ext cx="39988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34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32"/>
          <p:cNvSpPr/>
          <p:nvPr/>
        </p:nvSpPr>
        <p:spPr>
          <a:xfrm>
            <a:off x="250920" y="981000"/>
            <a:ext cx="5041800" cy="3168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250920" y="981000"/>
            <a:ext cx="5041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Эстония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мпания направлена на женщин, так как в Эстонии в последнее время очень выросло злоупотребление алкоголем именно среди женщин. 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мпания началась в начале 2007 года под слоганом «Прекрасная женщина – непьющая. Скажи алкоголю нет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социальных кампаний в СМИ</a:t>
            </a: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офилактика алкогол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6" descr="3652445a20d4c44b7a_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2852640"/>
            <a:ext cx="32814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382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32"/>
          <p:cNvSpPr/>
          <p:nvPr/>
        </p:nvSpPr>
        <p:spPr>
          <a:xfrm>
            <a:off x="250920" y="907920"/>
            <a:ext cx="8569080" cy="3168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4"/>
          <p:cNvSpPr/>
          <p:nvPr/>
        </p:nvSpPr>
        <p:spPr>
          <a:xfrm>
            <a:off x="250920" y="836640"/>
            <a:ext cx="4752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Социальная кампания </a:t>
            </a:r>
            <a:br>
              <a:rPr sz="2400"/>
            </a:b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«Без икры» </a:t>
            </a:r>
            <a:br>
              <a:rPr sz="24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евая группа: 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население России</a:t>
            </a: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влечь внимание к бедственному положению осетров,  которым грозит вымирание.</a:t>
            </a:r>
            <a:br>
              <a:rPr sz="44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имеры социальных рекламных кампаний</a:t>
            </a:r>
            <a:br>
              <a:rPr sz="2200"/>
            </a:b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Защита 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6"/>
          <p:cNvSpPr/>
          <p:nvPr/>
        </p:nvSpPr>
        <p:spPr>
          <a:xfrm>
            <a:off x="250920" y="4076640"/>
            <a:ext cx="5761080" cy="237492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bc75"/>
                </a:solidFill>
                <a:latin typeface="Arial"/>
              </a:rPr>
              <a:t>Кампания разработана по зак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bc75"/>
                </a:solidFill>
                <a:latin typeface="Arial"/>
              </a:rPr>
              <a:t>Всемирного фонда дико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7" descr="WWF_A3_final_02"/>
          <p:cNvPicPr/>
          <p:nvPr/>
        </p:nvPicPr>
        <p:blipFill>
          <a:blip r:embed="rId2"/>
          <a:stretch/>
        </p:blipFill>
        <p:spPr>
          <a:xfrm>
            <a:off x="5133960" y="836640"/>
            <a:ext cx="401004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418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32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3"/>
          <p:cNvSpPr/>
          <p:nvPr/>
        </p:nvSpPr>
        <p:spPr>
          <a:xfrm>
            <a:off x="539640" y="1268280"/>
            <a:ext cx="7850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Предвыборные кампании,</a:t>
            </a:r>
            <a:br>
              <a:rPr sz="2000"/>
            </a:b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Реклама политических партий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4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имеры политических ка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5" descr="Картинка 3 из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276640"/>
            <a:ext cx="4752720" cy="2376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6" descr="Prezidents_election"/>
          <p:cNvPicPr/>
          <p:nvPr/>
        </p:nvPicPr>
        <p:blipFill>
          <a:blip r:embed="rId4"/>
          <a:stretch/>
        </p:blipFill>
        <p:spPr>
          <a:xfrm>
            <a:off x="3924360" y="2997360"/>
            <a:ext cx="4653000" cy="341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453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32"/>
          <p:cNvSpPr/>
          <p:nvPr/>
        </p:nvSpPr>
        <p:spPr>
          <a:xfrm>
            <a:off x="250920" y="981000"/>
            <a:ext cx="8569080" cy="501984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7cc7"/>
                </a:solidFill>
                <a:latin typeface="Arial"/>
              </a:rPr>
              <a:t>Преимущества кампаний в 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395280" y="1000080"/>
            <a:ext cx="83534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о доносят информацию до больших групп насел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Являются основным источником информации о ВИЧ/СПИДе для различных возрастных групп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оступны для широкой аудитор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лияют на социальные и культурные таб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ддерживают внимание к теме на государственном и общественном уровня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Являются индикатором серьезности проблем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емонстрируют эффективность в изменении знаний, отношения и пове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пособны стимулировать дискуссию в обществе и на политическ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48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32"/>
          <p:cNvSpPr/>
          <p:nvPr/>
        </p:nvSpPr>
        <p:spPr>
          <a:xfrm>
            <a:off x="324000" y="981000"/>
            <a:ext cx="8496000" cy="511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Характеристики кампании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5"/>
          <p:cNvSpPr/>
          <p:nvPr/>
        </p:nvSpPr>
        <p:spPr>
          <a:xfrm>
            <a:off x="395280" y="981000"/>
            <a:ext cx="842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Кампания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ограниче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времени;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езультаты кампании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оцениваютс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заранее определенным показателям;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Широкий охват целевой группы в рамках кампании обеспечивается за счет использования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различных средств и кан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редачи сообщения;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Кампания состоит из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нескольких элемен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связаны одной общей идеей и сообщением кампании;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Все элементы кампании (видеоролик, аудиоролик, брошюры, плакаты и т.п.) имеют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единое дизайнерское реш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звуковое сопровождение (если оно есть), что делает их узнаваемыми и объединенными в одно целое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521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32"/>
          <p:cNvSpPr/>
          <p:nvPr/>
        </p:nvSpPr>
        <p:spPr>
          <a:xfrm>
            <a:off x="324000" y="981000"/>
            <a:ext cx="8496000" cy="511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Характеристики кампании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395280" y="981000"/>
            <a:ext cx="842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Кампания состоит из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комплек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заимосвязанных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мероприят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выполняемых в определенной последовательности и усиливающих друг друга. В ходе кампании используются разнообразные рекламные носители и каналы передачи выбранного сообщения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) Послание кампании и стратегия его воплощения формируются на основе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результатов исследований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с соблюдением основных принципов реализации кампании, разрабатываемые материалы обязательно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тестируютс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целевой группе. </a:t>
            </a:r>
            <a:br>
              <a:rPr sz="2000"/>
            </a:br>
            <a:br>
              <a:rPr sz="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)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Последователь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несколько камп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СМИ, что позволяет достичь заметного изменения поведения целевых групп. Исследования отслеживают изменения в знаниях, отношении и поведении целевой группы и позволяют формулировать новые послания и вносить коррективы в стратегию реализации кампани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555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Rectangle 32"/>
          <p:cNvSpPr/>
          <p:nvPr/>
        </p:nvSpPr>
        <p:spPr>
          <a:xfrm>
            <a:off x="250920" y="981000"/>
            <a:ext cx="8642160" cy="3456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7cc7"/>
                </a:solidFill>
                <a:latin typeface="Arial"/>
              </a:rPr>
              <a:t>Коммуникационная стратегия кампаний в С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324000" y="981000"/>
            <a:ext cx="864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мотно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спланирова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мпании в СМИ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влияю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знания, отношение и поведение целевых групп. Для эффективной кампании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бы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атериалы кампании были объединены общим дизайном и единым слоган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ждый элемент кампании дополнял и поддерживал другие элементы (видеоролик привлекает внимание и продвигает основную мысль, наружная реклама «работает» на запоминание слогана и дизайна, печатная продукция доносит ключевую информацию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ждый произведенный материал кампании был «доставлен» целевой групп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говоренности с ТВ-каналами и радиостанциями о ротации роликов, контракты с дилерами наружной рекламы, планы распространения печатной продукции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6" descr="4"/>
          <p:cNvPicPr/>
          <p:nvPr/>
        </p:nvPicPr>
        <p:blipFill>
          <a:blip r:embed="rId2"/>
          <a:stretch/>
        </p:blipFill>
        <p:spPr>
          <a:xfrm>
            <a:off x="468360" y="4983120"/>
            <a:ext cx="1511280" cy="12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9" name="Object 37"/>
          <p:cNvGraphicFramePr/>
          <p:nvPr/>
        </p:nvGraphicFramePr>
        <p:xfrm>
          <a:off x="5005440" y="5014800"/>
          <a:ext cx="1079280" cy="11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5014800"/>
                    <a:ext cx="107928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8"/>
          <p:cNvGraphicFramePr/>
          <p:nvPr/>
        </p:nvGraphicFramePr>
        <p:xfrm>
          <a:off x="2916360" y="4870440"/>
          <a:ext cx="1079280" cy="15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2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870440"/>
                    <a:ext cx="10792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39"/>
          <p:cNvGraphicFramePr/>
          <p:nvPr/>
        </p:nvGraphicFramePr>
        <p:xfrm>
          <a:off x="7020000" y="5119560"/>
          <a:ext cx="180000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4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5119560"/>
                    <a:ext cx="1800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AutoShape 40"/>
          <p:cNvSpPr/>
          <p:nvPr/>
        </p:nvSpPr>
        <p:spPr>
          <a:xfrm>
            <a:off x="2050920" y="559116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6d7be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41"/>
          <p:cNvSpPr/>
          <p:nvPr/>
        </p:nvSpPr>
        <p:spPr>
          <a:xfrm>
            <a:off x="4140360" y="55911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6d7be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2"/>
          <p:cNvSpPr/>
          <p:nvPr/>
        </p:nvSpPr>
        <p:spPr>
          <a:xfrm>
            <a:off x="6156360" y="55911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6d7be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3"/>
          <p:cNvSpPr/>
          <p:nvPr/>
        </p:nvSpPr>
        <p:spPr>
          <a:xfrm>
            <a:off x="468360" y="4437000"/>
            <a:ext cx="151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4472"/>
                </a:solidFill>
                <a:latin typeface="Arial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4"/>
          <p:cNvSpPr/>
          <p:nvPr/>
        </p:nvSpPr>
        <p:spPr>
          <a:xfrm>
            <a:off x="4788000" y="443700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4472"/>
                </a:solidFill>
                <a:latin typeface="Arial"/>
              </a:rPr>
              <a:t>Сло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5"/>
          <p:cNvSpPr/>
          <p:nvPr/>
        </p:nvSpPr>
        <p:spPr>
          <a:xfrm>
            <a:off x="2627280" y="4437000"/>
            <a:ext cx="15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4472"/>
                </a:solidFill>
                <a:latin typeface="Arial"/>
              </a:rPr>
              <a:t>Пла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6"/>
          <p:cNvSpPr/>
          <p:nvPr/>
        </p:nvSpPr>
        <p:spPr>
          <a:xfrm>
            <a:off x="7093080" y="4438800"/>
            <a:ext cx="151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4472"/>
                </a:solidFill>
                <a:latin typeface="Arial"/>
              </a:rPr>
              <a:t>Наруж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603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Rectangle 32"/>
          <p:cNvSpPr/>
          <p:nvPr/>
        </p:nvSpPr>
        <p:spPr>
          <a:xfrm>
            <a:off x="160200" y="1071720"/>
            <a:ext cx="6769080" cy="414324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58560" y="11736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нципы кампаний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5"/>
          <p:cNvSpPr/>
          <p:nvPr/>
        </p:nvSpPr>
        <p:spPr>
          <a:xfrm>
            <a:off x="250920" y="1052640"/>
            <a:ext cx="67690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комплексного подхода по продвижению более безопасного и ответственного повед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пользование позитивного подхода (послание основывается на положительных образах, а не на страхе или запугивании; основная цель —  привить полезную норму поведения)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щение (на понятном языке, с доступной информацией) ко всей целевой группе, с учетом различного состава ее представителей — в плане образования, места жительства и т. д.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6"/>
          <p:cNvSpPr/>
          <p:nvPr/>
        </p:nvSpPr>
        <p:spPr>
          <a:xfrm rot="21207000">
            <a:off x="7241760" y="1612440"/>
            <a:ext cx="1584360" cy="246852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7" descr="posterA2inf"/>
          <p:cNvPicPr/>
          <p:nvPr/>
        </p:nvPicPr>
        <p:blipFill>
          <a:blip r:embed="rId2"/>
          <a:stretch/>
        </p:blipFill>
        <p:spPr>
          <a:xfrm>
            <a:off x="7176960" y="1628640"/>
            <a:ext cx="1681200" cy="23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wheel spokes="3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639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Rectangle 32"/>
          <p:cNvSpPr/>
          <p:nvPr/>
        </p:nvSpPr>
        <p:spPr>
          <a:xfrm>
            <a:off x="250920" y="1197000"/>
            <a:ext cx="6769080" cy="475308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8560" y="11736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нципы кампаний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5"/>
          <p:cNvSpPr/>
          <p:nvPr/>
        </p:nvSpPr>
        <p:spPr>
          <a:xfrm>
            <a:off x="324000" y="1052640"/>
            <a:ext cx="67690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движение нормы поведения, которой целевая группа в состоянии последовать (например, молодежь 20-25 лет вряд ли будет следовать призывам о воздержании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чет особенностей целевой группы (культурных обычаев и тенденций, стиля общения и образа жизни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щение к целевой группе без выделения так называемых групп риска (все люди, подвергающиеся риску заражения ВИЧ/СПИДом/ИППП, являются представителями населения в целом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еклама не должна обманывать потреб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6"/>
          <p:cNvSpPr/>
          <p:nvPr/>
        </p:nvSpPr>
        <p:spPr>
          <a:xfrm rot="21207000">
            <a:off x="7241760" y="1612440"/>
            <a:ext cx="1584360" cy="246852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7" descr="posterA2inf"/>
          <p:cNvPicPr/>
          <p:nvPr/>
        </p:nvPicPr>
        <p:blipFill>
          <a:blip r:embed="rId2"/>
          <a:stretch/>
        </p:blipFill>
        <p:spPr>
          <a:xfrm>
            <a:off x="7176960" y="1628640"/>
            <a:ext cx="1681200" cy="23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wheel spokes="3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341360"/>
            <a:ext cx="9144000" cy="34578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26920" y="1557360"/>
            <a:ext cx="7632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нд социального развития и охраны здоровь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ФОКУС-МЕДИА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сийская некоммерческая организация, основанная в 1996 году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нд «ФОКУС-МЕДИА» помогает людям и организациям сделать осознанный выбор в пользу здоровья, развития и процветан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инструменты – это социальная реклама, обучающие программы для НКО и кампан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МИ.  В фокусе нашего внимания такие важные для российского общества вопросы как борьба со СПИДом, сохранение репродуктивного здоровья, поддержка и развитие некоммерческих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84360" y="5229360"/>
            <a:ext cx="7632720" cy="3603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472"/>
                </a:solidFill>
                <a:latin typeface="Arial"/>
              </a:rPr>
              <a:t>www.focus-medi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-34920" y="-2700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61720"/>
            <a:ext cx="878544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Миссия фонда «ФОКУС-МЕДИ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675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Rectangle 32"/>
          <p:cNvSpPr/>
          <p:nvPr/>
        </p:nvSpPr>
        <p:spPr>
          <a:xfrm>
            <a:off x="324000" y="981000"/>
            <a:ext cx="8496000" cy="4392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Изменение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5"/>
          <p:cNvSpPr/>
          <p:nvPr/>
        </p:nvSpPr>
        <p:spPr>
          <a:xfrm>
            <a:off x="395280" y="981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ействие кампаний СМИ основано на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 теор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изменения пове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ior change communication)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той теории человек в изменении своего поведения под воздействием информации проходит следующие этап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Осведомленность отсутству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Информированы/осведомлен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Обеспокоен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Имеют знания и навы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Имеют мотивировку к изменению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Готовы изменить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Первый опыт применения нового поведения и его оцен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) Принятие/практика нового поведения (Активная пропаган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709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32"/>
          <p:cNvSpPr/>
          <p:nvPr/>
        </p:nvSpPr>
        <p:spPr>
          <a:xfrm>
            <a:off x="324000" y="981000"/>
            <a:ext cx="8569080" cy="309564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Норма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5"/>
          <p:cNvSpPr/>
          <p:nvPr/>
        </p:nvSpPr>
        <p:spPr>
          <a:xfrm>
            <a:off x="539640" y="981000"/>
            <a:ext cx="8425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6"/>
          <p:cNvSpPr/>
          <p:nvPr/>
        </p:nvSpPr>
        <p:spPr>
          <a:xfrm>
            <a:off x="468360" y="98100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ая кампания в СМИ в конечном итоге направлена на изменение того или иного вида поведения ЦГ на более безопасное или позитивно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вом этапе разработки коммуникационной стратегии необходимо определить норму поведения, которая затем будет предложена ЦГ в качестве решения проблемы, к которой обращается кампания в СМИ.</a:t>
            </a:r>
            <a:br>
              <a:rPr sz="2000"/>
            </a:br>
            <a:br>
              <a:rPr sz="900"/>
            </a:b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Норма повед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это определенный стереотип или образец поведения, широко распространенный среди членов сообщест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37" descr="serenada-book"/>
          <p:cNvPicPr/>
          <p:nvPr/>
        </p:nvPicPr>
        <p:blipFill>
          <a:blip r:embed="rId2"/>
          <a:stretch/>
        </p:blipFill>
        <p:spPr>
          <a:xfrm>
            <a:off x="2700360" y="4102200"/>
            <a:ext cx="371808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745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32"/>
          <p:cNvSpPr/>
          <p:nvPr/>
        </p:nvSpPr>
        <p:spPr>
          <a:xfrm>
            <a:off x="324000" y="907920"/>
            <a:ext cx="8569080" cy="53787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4472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37cc7"/>
                </a:solidFill>
                <a:latin typeface="Arial"/>
              </a:rPr>
              <a:t>Принципы разработки послания кампании в СМ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647640" y="785880"/>
            <a:ext cx="842508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6"/>
          <p:cNvSpPr/>
          <p:nvPr/>
        </p:nvSpPr>
        <p:spPr>
          <a:xfrm>
            <a:off x="468360" y="1031760"/>
            <a:ext cx="842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Главным принципом разработки послания является </a:t>
            </a:r>
            <a:r>
              <a:rPr b="1" lang="ru-RU" sz="2200" spc="-1" strike="noStrike">
                <a:solidFill>
                  <a:srgbClr val="224472"/>
                </a:solidFill>
                <a:latin typeface="Arial"/>
              </a:rPr>
              <a:t>использование результатов исследован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для его формулирования.</a:t>
            </a:r>
            <a:br>
              <a:rPr sz="2000"/>
            </a:br>
            <a:br>
              <a:rPr sz="9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слание должно состоять из трех тезисов: </a:t>
            </a:r>
            <a:r>
              <a:rPr b="1" lang="ru-RU" sz="2200" spc="-1" strike="noStrike">
                <a:solidFill>
                  <a:srgbClr val="224472"/>
                </a:solidFill>
                <a:latin typeface="Arial"/>
              </a:rPr>
              <a:t>постановка проблемы – характеристика проблемы – решение проблем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br>
              <a:rPr sz="800"/>
            </a:br>
            <a:br>
              <a:rPr sz="9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Послание должно продвигать</a:t>
            </a:r>
            <a:r>
              <a:rPr b="1" lang="ru-RU" sz="2200" spc="-1" strike="noStrike">
                <a:solidFill>
                  <a:srgbClr val="224472"/>
                </a:solidFill>
                <a:latin typeface="Arial"/>
              </a:rPr>
              <a:t> норму поведения, которой целевая группа в состоянии последовать. </a:t>
            </a:r>
            <a:br>
              <a:rPr sz="2000"/>
            </a:br>
            <a:br>
              <a:rPr sz="9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Послание должно</a:t>
            </a:r>
            <a:r>
              <a:rPr b="1" lang="ru-RU" sz="2200" spc="-1" strike="noStrike">
                <a:solidFill>
                  <a:srgbClr val="224472"/>
                </a:solidFill>
                <a:latin typeface="Arial"/>
              </a:rPr>
              <a:t> формулироваться предельно четко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чтобы исключить малейшую вероятность его двоякого толкования целевой группой,</a:t>
            </a:r>
            <a:r>
              <a:rPr b="1" lang="ru-RU" sz="2200" spc="-1" strike="noStrike">
                <a:solidFill>
                  <a:srgbClr val="224472"/>
                </a:solidFill>
                <a:latin typeface="Arial"/>
              </a:rPr>
              <a:t> и сопровождаться призывом к конкретному действ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780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32"/>
          <p:cNvSpPr/>
          <p:nvPr/>
        </p:nvSpPr>
        <p:spPr>
          <a:xfrm>
            <a:off x="250920" y="981000"/>
            <a:ext cx="8713800" cy="511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4"/>
          <p:cNvSpPr/>
          <p:nvPr/>
        </p:nvSpPr>
        <p:spPr>
          <a:xfrm>
            <a:off x="395280" y="1054080"/>
            <a:ext cx="8569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я двадцатилетний опыт проведения кампаний в СМИ в Европе и России можно выделить два основных подхода к воплощению послан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позитивный и негативны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мках </a:t>
            </a: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позитивного подход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ется несколько вариантов донесения послания до целевой группы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огический/рациональн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юмористически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моциональны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4472"/>
                </a:solidFill>
                <a:latin typeface="Arial"/>
              </a:rPr>
              <a:t>Негативный подхо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предполагает несколько вариантов воздействия на аудиторию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пугивани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суждени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рализато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Основные подходы к воплощению посл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814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32"/>
          <p:cNvSpPr/>
          <p:nvPr/>
        </p:nvSpPr>
        <p:spPr>
          <a:xfrm>
            <a:off x="250920" y="1413000"/>
            <a:ext cx="4608360" cy="3456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4"/>
          <p:cNvSpPr/>
          <p:nvPr/>
        </p:nvSpPr>
        <p:spPr>
          <a:xfrm>
            <a:off x="324000" y="1486080"/>
            <a:ext cx="4535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ропаганда безопасного секса. </a:t>
            </a: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Подход:</a:t>
            </a:r>
            <a:br>
              <a:rPr sz="15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мористический.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. Слоган: Эта мелочь защитит обоих. 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Результат:</a:t>
            </a:r>
            <a:br>
              <a:rPr sz="15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личество молодых людей, постоянно использующих презервативы, увеличилось более чем в два раза - с 20% до 4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имеры российских эффективных кампаний в С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8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67164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3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849" name="Oval 4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5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6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7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8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9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0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1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2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3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4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5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6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7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8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9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0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1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2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3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4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5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6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7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8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9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0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1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2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ectangle 33"/>
          <p:cNvSpPr/>
          <p:nvPr/>
        </p:nvSpPr>
        <p:spPr>
          <a:xfrm>
            <a:off x="250920" y="1052640"/>
            <a:ext cx="4897440" cy="5256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4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российских кампаний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6"/>
          <p:cNvSpPr/>
          <p:nvPr/>
        </p:nvSpPr>
        <p:spPr>
          <a:xfrm>
            <a:off x="539640" y="1150920"/>
            <a:ext cx="396108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1"/>
          <p:cNvSpPr/>
          <p:nvPr/>
        </p:nvSpPr>
        <p:spPr>
          <a:xfrm>
            <a:off x="324000" y="1052640"/>
            <a:ext cx="4824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ропаганда безопасного секса. </a:t>
            </a: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Подход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моциональный (участие знаменитостей).</a:t>
            </a: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. Слоган: Жизнь прекрасна, когда защищена!</a:t>
            </a: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Результат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первые в России использована комбинация двух подходов – участие в видеороликах знаменитостей: «Чай вдвоем», Д.Бэкхема и Э.Джона и сверстников целево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езультате кампании снизился уровень ошибочных представлений об основных путях передачи ВИЧ-инфекции, использование презервативов в большей степени воспринимается как социально-одобряемое и широко распространенное поведение. Повысился уровень доверия к презервативам как надежному средству защиты от рис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42" descr="SS page"/>
          <p:cNvPicPr/>
          <p:nvPr/>
        </p:nvPicPr>
        <p:blipFill>
          <a:blip r:embed="rId2"/>
          <a:stretch/>
        </p:blipFill>
        <p:spPr>
          <a:xfrm>
            <a:off x="7099200" y="2884320"/>
            <a:ext cx="1438200" cy="203544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3" descr="elt"/>
          <p:cNvPicPr/>
          <p:nvPr/>
        </p:nvPicPr>
        <p:blipFill>
          <a:blip r:embed="rId3"/>
          <a:stretch/>
        </p:blipFill>
        <p:spPr>
          <a:xfrm>
            <a:off x="6642000" y="1555920"/>
            <a:ext cx="2251080" cy="16873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4" descr="dev1"/>
          <p:cNvPicPr/>
          <p:nvPr/>
        </p:nvPicPr>
        <p:blipFill>
          <a:blip r:embed="rId4"/>
          <a:stretch/>
        </p:blipFill>
        <p:spPr>
          <a:xfrm>
            <a:off x="5473800" y="1411200"/>
            <a:ext cx="1977840" cy="14842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45" descr="bscap003"/>
          <p:cNvPicPr/>
          <p:nvPr/>
        </p:nvPicPr>
        <p:blipFill>
          <a:blip r:embed="rId5"/>
          <a:stretch/>
        </p:blipFill>
        <p:spPr>
          <a:xfrm>
            <a:off x="5219640" y="2563920"/>
            <a:ext cx="2166840" cy="167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888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"/>
          <p:cNvSpPr/>
          <p:nvPr/>
        </p:nvSpPr>
        <p:spPr>
          <a:xfrm>
            <a:off x="250920" y="1557360"/>
            <a:ext cx="4608360" cy="395928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58560" y="188640"/>
            <a:ext cx="87850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Кампания в СМИ «Оставайтесь людьм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5"/>
          <p:cNvSpPr/>
          <p:nvPr/>
        </p:nvSpPr>
        <p:spPr>
          <a:xfrm>
            <a:off x="395280" y="1654200"/>
            <a:ext cx="4392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нижения стигмы и дискриминации людей с ВИЧ. </a:t>
            </a: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Подход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моциональны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. Слоган: Оставайтесь людьми!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Результаты кампани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12% увеличилось количество людей, в отношении которых к близким ВИЧ-положительным людям ничего не измениться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6"/>
          <p:cNvSpPr/>
          <p:nvPr/>
        </p:nvSpPr>
        <p:spPr>
          <a:xfrm rot="21207000">
            <a:off x="5605560" y="1026720"/>
            <a:ext cx="3098880" cy="412920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44" descr="posterA2inf"/>
          <p:cNvPicPr/>
          <p:nvPr/>
        </p:nvPicPr>
        <p:blipFill>
          <a:blip r:embed="rId2"/>
          <a:stretch/>
        </p:blipFill>
        <p:spPr>
          <a:xfrm>
            <a:off x="5748480" y="1125360"/>
            <a:ext cx="2903400" cy="4104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graphicFrame>
        <p:nvGraphicFramePr>
          <p:cNvPr id="923" name="Object 45"/>
          <p:cNvGraphicFramePr/>
          <p:nvPr/>
        </p:nvGraphicFramePr>
        <p:xfrm>
          <a:off x="4932360" y="5445000"/>
          <a:ext cx="8604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5445000"/>
                    <a:ext cx="8604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3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926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32"/>
          <p:cNvSpPr/>
          <p:nvPr/>
        </p:nvSpPr>
        <p:spPr>
          <a:xfrm>
            <a:off x="250920" y="1268280"/>
            <a:ext cx="4608360" cy="4392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58560" y="188640"/>
            <a:ext cx="87850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Кампания в СМИ «Реализуй свое право на здоровь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5"/>
          <p:cNvSpPr/>
          <p:nvPr/>
        </p:nvSpPr>
        <p:spPr>
          <a:xfrm>
            <a:off x="395280" y="1341360"/>
            <a:ext cx="4392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ропаганда более безопасного сексуального повеледения среди женщин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Подход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мористический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. Слоган: Реализуй свое право на здоровье!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Результаты кампани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10% увеличилось количество молодых людей, положительно относящихся к предложению партнера использовать презерватив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6"/>
          <p:cNvSpPr/>
          <p:nvPr/>
        </p:nvSpPr>
        <p:spPr>
          <a:xfrm rot="21207000">
            <a:off x="5076720" y="1635120"/>
            <a:ext cx="3745080" cy="337356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Object 38"/>
          <p:cNvGraphicFramePr/>
          <p:nvPr/>
        </p:nvGraphicFramePr>
        <p:xfrm>
          <a:off x="4932360" y="5445000"/>
          <a:ext cx="86040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1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5445000"/>
                    <a:ext cx="8604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Picture 39" descr="tandem-ura!"/>
          <p:cNvPicPr/>
          <p:nvPr/>
        </p:nvPicPr>
        <p:blipFill>
          <a:blip r:embed="rId4"/>
          <a:stretch/>
        </p:blipFill>
        <p:spPr>
          <a:xfrm>
            <a:off x="5003640" y="1754280"/>
            <a:ext cx="388944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964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Rectangle 32"/>
          <p:cNvSpPr/>
          <p:nvPr/>
        </p:nvSpPr>
        <p:spPr>
          <a:xfrm>
            <a:off x="322200" y="1052640"/>
            <a:ext cx="8642520" cy="489744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4"/>
          <p:cNvSpPr/>
          <p:nvPr/>
        </p:nvSpPr>
        <p:spPr>
          <a:xfrm>
            <a:off x="395280" y="1125360"/>
            <a:ext cx="8352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Оцен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правлена на анализ результатов деятельности и/или произведенного эффекта и соотнесение этих результатов с определенными критериями.</a:t>
            </a:r>
            <a:br>
              <a:rPr sz="2400"/>
            </a:b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Оценка эффективности кампании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одится на ключевых этапах реализации кампании и по ее заверш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зволяет проанализировать причины достижения/не достижения запланирован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птимизировать или усовершенствовать стратегию кампании в СМИ (в отличие от мониторинга, благодаря которому мы можем внести коррективы только в ход запланированных мероприят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езультаты оценка  кампании используются для разработки стратегии последующей кампан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Мониторинг и оценка кампании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998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4"/>
          <p:cNvSpPr/>
          <p:nvPr/>
        </p:nvSpPr>
        <p:spPr>
          <a:xfrm>
            <a:off x="250920" y="1125360"/>
            <a:ext cx="4752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Результаты кампаний «Реализуй свое право на здоровь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2"/>
          <p:cNvGraphicFramePr/>
          <p:nvPr/>
        </p:nvGraphicFramePr>
        <p:xfrm>
          <a:off x="179280" y="1071720"/>
          <a:ext cx="8785440" cy="482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71720"/>
                    <a:ext cx="878544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3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51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2"/>
          <p:cNvSpPr/>
          <p:nvPr/>
        </p:nvSpPr>
        <p:spPr>
          <a:xfrm>
            <a:off x="250920" y="1052640"/>
            <a:ext cx="5905440" cy="547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17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Деятельность фонда «ФОКУС-МЕДИА»</a:t>
            </a:r>
            <a:r>
              <a:rPr b="1" lang="en-US" sz="2400" spc="-1" strike="noStrike">
                <a:solidFill>
                  <a:srgbClr val="437cc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в области профилактики ВИЧ/СП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92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4472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Социально-маркетинговые исследования</a:t>
            </a:r>
            <a:r>
              <a:rPr b="1" lang="en-GB" sz="1800" spc="-1" strike="noStrike">
                <a:solidFill>
                  <a:srgbClr val="224472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- Вторичные и первичные исследования (как качественные, так и количественные) знаний, отношения и поведения целевых групп (молодежи, населения в целом) в области ВИЧ/СПИД/ИППП, сексуального здоровья и отношения к ВИЧ-положительным людям (ЛЖВ)</a:t>
            </a:r>
            <a:br>
              <a:rPr sz="1700"/>
            </a:br>
            <a:br>
              <a:rPr sz="1600"/>
            </a:br>
            <a:r>
              <a:rPr b="1" lang="en-GB" sz="1800" spc="-1" strike="noStrike">
                <a:solidFill>
                  <a:srgbClr val="224472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Проведение кампаний в СМИ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- Кампании по пропаганде безопасного сексуального поведения</a:t>
            </a:r>
            <a:br>
              <a:rPr sz="1700"/>
            </a:b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- Кампании солидарности по отношению к ЛЖВ </a:t>
            </a:r>
            <a:br>
              <a:rPr sz="1700"/>
            </a:b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нд «ФОКУС-МЕДИА» реализует кампании в СМИ на федеральном уровне и имеет партнеров более, чем в 40 регионах России и СНГ. За период с 1998 года Фонд реализовал 11 кампаний в СМИ по безопасному сексу для молодежи и по солидарности с людьми, живущими с ВИЧ/СПИДом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мпании охватили 90 млн. человек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6445080" y="981000"/>
            <a:ext cx="2374920" cy="223200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7" descr="Dubles_VHS_outlines"/>
          <p:cNvPicPr/>
          <p:nvPr/>
        </p:nvPicPr>
        <p:blipFill>
          <a:blip r:embed="rId2"/>
          <a:srcRect l="60244" t="20713" r="0" b="26967"/>
          <a:stretch/>
        </p:blipFill>
        <p:spPr>
          <a:xfrm rot="20869200">
            <a:off x="6550200" y="919080"/>
            <a:ext cx="2198520" cy="21560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86" name="Rectangle 39"/>
          <p:cNvSpPr/>
          <p:nvPr/>
        </p:nvSpPr>
        <p:spPr>
          <a:xfrm rot="21207000">
            <a:off x="6302160" y="3671640"/>
            <a:ext cx="2230200" cy="218412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0" descr=""/>
          <p:cNvPicPr/>
          <p:nvPr/>
        </p:nvPicPr>
        <p:blipFill>
          <a:blip r:embed="rId3"/>
          <a:stretch/>
        </p:blipFill>
        <p:spPr>
          <a:xfrm rot="354000">
            <a:off x="6373440" y="364500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033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32"/>
          <p:cNvSpPr/>
          <p:nvPr/>
        </p:nvSpPr>
        <p:spPr>
          <a:xfrm>
            <a:off x="285840" y="1214280"/>
            <a:ext cx="8642160" cy="511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33"/>
          <p:cNvSpPr/>
          <p:nvPr/>
        </p:nvSpPr>
        <p:spPr>
          <a:xfrm>
            <a:off x="0" y="0"/>
            <a:ext cx="9215280" cy="114300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4"/>
          <p:cNvSpPr/>
          <p:nvPr/>
        </p:nvSpPr>
        <p:spPr>
          <a:xfrm>
            <a:off x="395280" y="1265400"/>
            <a:ext cx="8352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Что эффектив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ставление фактов о ку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етание демонстрации пугающих последствий курения и предложение помощи желающим бросить курить (телефон горячей линии, адрес кли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вижение идеи ограничения курения в присутствии детей и близких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уровня осознаний некурящих о вреде пассивного ку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Что неэффективн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пании, направленные на детей и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472"/>
                </a:solidFill>
                <a:latin typeface="Arial"/>
              </a:rPr>
              <a:t>NB</a:t>
            </a: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44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КАМПАНИИ ДОЛЖНЫ ИДТИ ПОСТОЯН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Опыт зарубежных кампаний по ограничению табакоку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06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Rectangle 32"/>
          <p:cNvSpPr/>
          <p:nvPr/>
        </p:nvSpPr>
        <p:spPr>
          <a:xfrm>
            <a:off x="285840" y="1214280"/>
            <a:ext cx="8642160" cy="50007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33"/>
          <p:cNvSpPr/>
          <p:nvPr/>
        </p:nvSpPr>
        <p:spPr>
          <a:xfrm>
            <a:off x="0" y="0"/>
            <a:ext cx="9215280" cy="114300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34"/>
          <p:cNvSpPr/>
          <p:nvPr/>
        </p:nvSpPr>
        <p:spPr>
          <a:xfrm>
            <a:off x="395280" y="1122480"/>
            <a:ext cx="84628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Англия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распространения курения снизился с 28 % в 1998 г. до 24 % в 2005 г., что означает сокращение числа курильщиков приблизительно на 1,2 млн.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США, Массачусет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дение потребления табачной продукции на 31 % за период с 1992 по 1997 гг., что более чем в три раза превышает падение потребления в других шта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Австралия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распространения курения у взрослого населения снизился с 22,9 % в 1997 г. до 18,4 % в 2005 г. Кроме того, в тот же период среднее потребление сигарет снизилось с 15,4 до 13 сигарет в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Каких результатов можно добиться с помощью кампаний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101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32"/>
          <p:cNvSpPr/>
          <p:nvPr/>
        </p:nvSpPr>
        <p:spPr>
          <a:xfrm>
            <a:off x="285840" y="1214280"/>
            <a:ext cx="8642160" cy="50007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3"/>
          <p:cNvSpPr/>
          <p:nvPr/>
        </p:nvSpPr>
        <p:spPr>
          <a:xfrm>
            <a:off x="0" y="0"/>
            <a:ext cx="9215280" cy="114300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34"/>
          <p:cNvSpPr/>
          <p:nvPr/>
        </p:nvSpPr>
        <p:spPr>
          <a:xfrm>
            <a:off x="395280" y="1193760"/>
            <a:ext cx="84628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Это быстрый и гибкий инструмен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до того, как начнется борьба за изменение законодательства, кампании в СМИ позволяют информировать население и таким образом формировать «дружественную сре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472"/>
                </a:solidFill>
                <a:latin typeface="Arial"/>
              </a:rPr>
              <a:t>Кампании в средствах массовой информации необходимы для противодействия усилиям табачной промышлен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ПРОТИВОПОСТАВЛЯТЬ ФАКТЫ О КУРЕНИИ РЕКЛАМЕ ТАБАЧНЫХ ИЗДЕЛ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Почему стоит проводить кампаний в СМИ по ограничению табакоку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135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Rectangle 32"/>
          <p:cNvSpPr/>
          <p:nvPr/>
        </p:nvSpPr>
        <p:spPr>
          <a:xfrm>
            <a:off x="285840" y="1214280"/>
            <a:ext cx="8642160" cy="50007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3"/>
          <p:cNvSpPr/>
          <p:nvPr/>
        </p:nvSpPr>
        <p:spPr>
          <a:xfrm>
            <a:off x="0" y="0"/>
            <a:ext cx="9215280" cy="114300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4"/>
          <p:cNvSpPr/>
          <p:nvPr/>
        </p:nvSpPr>
        <p:spPr>
          <a:xfrm>
            <a:off x="285840" y="1193760"/>
            <a:ext cx="86439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процесса курения вызывает у большинства курильщиков желание сделать затяжку. Нужны творческие решения, обязательно тестируемые на целевых групп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рпретация результатов тестирования (фокус-групп) должна осуществляться независимыми экспертами во избежание производства неэффективной рекламы, которая «понравилась респонден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тсутствии системы поддержки курильщикам, бросающим курить, кампании с призывами о прекращении курения неэффекти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мпании в СМИ – это дорого, и бюджеты, которые есть у НКО и которые могут выделяться государством – смешны по сравнению с рекламными бюджетами таба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затруднена из-за эффекта «отложенного воздействия», из-за чего очень трудно понять, что же сработало эффективно, а ч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5"/>
          <p:cNvSpPr/>
          <p:nvPr/>
        </p:nvSpPr>
        <p:spPr>
          <a:xfrm>
            <a:off x="179280" y="187200"/>
            <a:ext cx="878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7cc7"/>
                </a:solidFill>
                <a:latin typeface="Arial"/>
              </a:rPr>
              <a:t>Проблемы антитабачных кампаний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169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Rectangle 32"/>
          <p:cNvSpPr/>
          <p:nvPr/>
        </p:nvSpPr>
        <p:spPr>
          <a:xfrm>
            <a:off x="826920" y="4365720"/>
            <a:ext cx="7632720" cy="1224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472"/>
                </a:solidFill>
                <a:latin typeface="Arial"/>
              </a:rPr>
              <a:t>www.focus-medi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3"/>
          <p:cNvSpPr/>
          <p:nvPr/>
        </p:nvSpPr>
        <p:spPr>
          <a:xfrm>
            <a:off x="0" y="0"/>
            <a:ext cx="9215280" cy="129528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5"/>
          <p:cNvSpPr/>
          <p:nvPr/>
        </p:nvSpPr>
        <p:spPr>
          <a:xfrm>
            <a:off x="539640" y="2133720"/>
            <a:ext cx="80647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2" name="Object 36"/>
          <p:cNvGraphicFramePr/>
          <p:nvPr/>
        </p:nvGraphicFramePr>
        <p:xfrm>
          <a:off x="826920" y="1341360"/>
          <a:ext cx="7561440" cy="15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341360"/>
                    <a:ext cx="75614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3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89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32"/>
          <p:cNvSpPr/>
          <p:nvPr/>
        </p:nvSpPr>
        <p:spPr>
          <a:xfrm>
            <a:off x="250920" y="1052640"/>
            <a:ext cx="5041800" cy="468144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7360"/>
            <a:ext cx="8785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Деятельность Фонда «ФОКУС-МЕДИА»</a:t>
            </a:r>
            <a:r>
              <a:rPr b="1" lang="en-US" sz="2400" spc="-1" strike="noStrike">
                <a:solidFill>
                  <a:srgbClr val="437cc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в области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250920" y="1125360"/>
            <a:ext cx="511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1. Укрепление  организационной и финансовой стабильности НКО</a:t>
            </a:r>
            <a:br>
              <a:rPr sz="1600"/>
            </a:b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учение по разработанным программа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крепление межсекторного взаимодействия (сотрудничество с коммерческими и государственными структурами, СМИ)</a:t>
            </a:r>
            <a:br>
              <a:rPr sz="1800"/>
            </a:br>
            <a:br>
              <a:rPr sz="1600"/>
            </a:b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Распространение новых технологий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ккумулирование и распространение передового российского и зарубежного опы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е технологии проектов, фандрайзинговые технологии и межсекторного взаимодей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здание методических и учебных пособ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 rot="21261000">
            <a:off x="5307120" y="1240920"/>
            <a:ext cx="3522600" cy="277812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 rot="20706600">
            <a:off x="6008400" y="3578040"/>
            <a:ext cx="1958760" cy="249696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8" descr="3"/>
          <p:cNvPicPr/>
          <p:nvPr/>
        </p:nvPicPr>
        <p:blipFill>
          <a:blip r:embed="rId2"/>
          <a:stretch/>
        </p:blipFill>
        <p:spPr>
          <a:xfrm>
            <a:off x="5508720" y="1268280"/>
            <a:ext cx="3305160" cy="2479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25" name="Picture 39" descr="Brochur"/>
          <p:cNvPicPr/>
          <p:nvPr/>
        </p:nvPicPr>
        <p:blipFill>
          <a:blip r:embed="rId3"/>
          <a:stretch/>
        </p:blipFill>
        <p:spPr>
          <a:xfrm>
            <a:off x="6084720" y="3573360"/>
            <a:ext cx="171468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2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32"/>
          <p:cNvSpPr/>
          <p:nvPr/>
        </p:nvSpPr>
        <p:spPr>
          <a:xfrm>
            <a:off x="250920" y="1052640"/>
            <a:ext cx="8569080" cy="3024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7cc7"/>
                </a:solidFill>
                <a:latin typeface="Arial"/>
              </a:rPr>
              <a:t>Кампании в 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66560" y="1341360"/>
            <a:ext cx="8137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4472"/>
                </a:solidFill>
                <a:latin typeface="Arial"/>
              </a:rPr>
              <a:t>Социальные кампания в С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социально-маркетинговая технология, изначально сформировавшаяся в рекламном бизнесе и базирующаяся на основных принципах массовых коммуникаций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700"/>
            </a:br>
            <a:br>
              <a:rPr sz="17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пании в СМИ воздействуют на целевые группы с помощью различных средств и каналов массового и индивидуального информирования: телевидение, радио, печатные СМИ, наружная и транспортная реклама, массовые мероприятия, тренинги и др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8" descr="Meloch2-1"/>
          <p:cNvPicPr/>
          <p:nvPr/>
        </p:nvPicPr>
        <p:blipFill>
          <a:blip r:embed="rId2"/>
          <a:stretch/>
        </p:blipFill>
        <p:spPr>
          <a:xfrm>
            <a:off x="1925640" y="4653000"/>
            <a:ext cx="142236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9" descr="Meloch5-1"/>
          <p:cNvPicPr/>
          <p:nvPr/>
        </p:nvPicPr>
        <p:blipFill>
          <a:blip r:embed="rId3"/>
          <a:stretch/>
        </p:blipFill>
        <p:spPr>
          <a:xfrm>
            <a:off x="3279600" y="4653000"/>
            <a:ext cx="143532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thing3-1"/>
          <p:cNvPicPr/>
          <p:nvPr/>
        </p:nvPicPr>
        <p:blipFill>
          <a:blip r:embed="rId4"/>
          <a:stretch/>
        </p:blipFill>
        <p:spPr>
          <a:xfrm>
            <a:off x="4584600" y="4653000"/>
            <a:ext cx="142740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bscap003-1"/>
          <p:cNvPicPr/>
          <p:nvPr/>
        </p:nvPicPr>
        <p:blipFill>
          <a:blip r:embed="rId5"/>
          <a:stretch/>
        </p:blipFill>
        <p:spPr>
          <a:xfrm>
            <a:off x="5986440" y="4653000"/>
            <a:ext cx="13208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logoLZVS"/>
          <p:cNvPicPr/>
          <p:nvPr/>
        </p:nvPicPr>
        <p:blipFill>
          <a:blip r:embed="rId6"/>
          <a:stretch/>
        </p:blipFill>
        <p:spPr>
          <a:xfrm>
            <a:off x="7283520" y="4653000"/>
            <a:ext cx="153648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"/>
          <p:cNvPicPr/>
          <p:nvPr/>
        </p:nvPicPr>
        <p:blipFill>
          <a:blip r:embed="rId7"/>
          <a:stretch/>
        </p:blipFill>
        <p:spPr>
          <a:xfrm>
            <a:off x="395280" y="467352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16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32"/>
          <p:cNvSpPr/>
          <p:nvPr/>
        </p:nvSpPr>
        <p:spPr>
          <a:xfrm>
            <a:off x="250920" y="1125360"/>
            <a:ext cx="4752720" cy="2376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250920" y="1125360"/>
            <a:ext cx="4752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евая группа: 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тенциальные покупатели </a:t>
            </a:r>
            <a:br>
              <a:rPr sz="1600"/>
            </a:br>
            <a:br>
              <a:rPr sz="15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вижение товарного брэнда</a:t>
            </a: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 </a:t>
            </a:r>
            <a:br>
              <a:rPr sz="1500"/>
            </a:b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Coca–Cola – самый узнаваемый и самый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рогой бренд в мире. Напиток Coca–Cola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ьют более чем в 200 странах мир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Примеры коммерческих ка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755640" y="4149720"/>
            <a:ext cx="4248000" cy="2519280"/>
          </a:xfrm>
          <a:prstGeom prst="rect">
            <a:avLst/>
          </a:prstGeom>
          <a:solidFill>
            <a:srgbClr val="e5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7" descr="Картинка 1 из 2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981000"/>
            <a:ext cx="3703680" cy="457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8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316872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204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32"/>
          <p:cNvSpPr/>
          <p:nvPr/>
        </p:nvSpPr>
        <p:spPr>
          <a:xfrm>
            <a:off x="179280" y="1268280"/>
            <a:ext cx="5042160" cy="367200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0" y="0"/>
            <a:ext cx="9215280" cy="90792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социальных кампаний в СМИ. </a:t>
            </a:r>
            <a:br>
              <a:rPr sz="2400"/>
            </a:b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офилактика табакоку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539640" y="1150920"/>
            <a:ext cx="396108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324000" y="1341360"/>
            <a:ext cx="4824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Профилактика табакокурени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мпания против табакокурения стартовала в Великобритании с начала 2007 года. Ее цель донести до людей, что, даже куря время от времени, они могут попасться на крючок зависимост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24472"/>
                </a:solidFill>
                <a:latin typeface="Arial"/>
              </a:rPr>
              <a:t>Слоган кампани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«Среднему курильщику требуется более 1000 сигарет в год. Не попадитесь на крючок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7" descr="tabacco1"/>
          <p:cNvPicPr/>
          <p:nvPr/>
        </p:nvPicPr>
        <p:blipFill>
          <a:blip r:embed="rId2"/>
          <a:srcRect l="10708" t="0" r="10708" b="0"/>
          <a:stretch/>
        </p:blipFill>
        <p:spPr>
          <a:xfrm>
            <a:off x="5292720" y="3789360"/>
            <a:ext cx="3600360" cy="2355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8" descr="tabacco2"/>
          <p:cNvPicPr/>
          <p:nvPr/>
        </p:nvPicPr>
        <p:blipFill>
          <a:blip r:embed="rId3"/>
          <a:srcRect l="15080" t="0" r="15080" b="0"/>
          <a:stretch/>
        </p:blipFill>
        <p:spPr>
          <a:xfrm>
            <a:off x="5292720" y="981000"/>
            <a:ext cx="3672000" cy="267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242" name="Oval 4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6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1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2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7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9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0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1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2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5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8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30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31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32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33"/>
          <p:cNvSpPr/>
          <p:nvPr/>
        </p:nvSpPr>
        <p:spPr>
          <a:xfrm>
            <a:off x="250920" y="1268280"/>
            <a:ext cx="4608360" cy="439272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324000" y="1341360"/>
            <a:ext cx="4535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вышение осознания населения серьезности проблемы курения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гентство Full Jazz из Бразилии разработало рекламную кампанию к Национальному дню борьбы с курением, который прошел 29 августа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гентство использовало в качестве рекламных носителей уличные столбы Сан-Пауло с дорожными знаками STOP (PARE)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жнюю часть опоры рекламисты обклеили, и она стала гигантской сигаретой с предупреждением: «Курению STOP!»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социальных кампаний в СМИ. </a:t>
            </a:r>
            <a:br>
              <a:rPr sz="2400"/>
            </a:b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офилактика табакоку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5292720" y="1125360"/>
            <a:ext cx="360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8" descr=" Full Jazz использовало дорожные столбы в антитабачной кампании в Сан-Пауло "/>
          <p:cNvPicPr/>
          <p:nvPr/>
        </p:nvPicPr>
        <p:blipFill>
          <a:blip r:embed="rId2"/>
          <a:stretch/>
        </p:blipFill>
        <p:spPr>
          <a:xfrm>
            <a:off x="5759280" y="1628640"/>
            <a:ext cx="2557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-47880" y="110880"/>
            <a:ext cx="6501960" cy="6602040"/>
            <a:chOff x="-47880" y="110880"/>
            <a:chExt cx="6501960" cy="6602040"/>
          </a:xfrm>
        </p:grpSpPr>
        <p:sp>
          <p:nvSpPr>
            <p:cNvPr id="277" name="Oval 3"/>
            <p:cNvSpPr/>
            <p:nvPr/>
          </p:nvSpPr>
          <p:spPr>
            <a:xfrm>
              <a:off x="2448000" y="2999160"/>
              <a:ext cx="2016000" cy="1944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 rot="17923200">
              <a:off x="3562920" y="896040"/>
              <a:ext cx="1217520" cy="17082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 rot="18170400">
              <a:off x="1541520" y="5344920"/>
              <a:ext cx="376200" cy="11574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 rot="17679600">
              <a:off x="4344840" y="87120"/>
              <a:ext cx="376200" cy="115704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 rot="21142200">
              <a:off x="4319280" y="2350800"/>
              <a:ext cx="1297080" cy="17272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 rot="20505000">
              <a:off x="5543640" y="1990800"/>
              <a:ext cx="574560" cy="1373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 rot="20395800">
              <a:off x="6094440" y="184320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 rot="19256400">
              <a:off x="5543640" y="909360"/>
              <a:ext cx="179280" cy="10828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 rot="527400">
              <a:off x="5897520" y="3284640"/>
              <a:ext cx="428760" cy="1152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 rot="1536600">
              <a:off x="4950000" y="3859200"/>
              <a:ext cx="846000" cy="14382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 rot="1530000">
              <a:off x="5992560" y="4151520"/>
              <a:ext cx="215640" cy="1082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"/>
            <p:cNvSpPr/>
            <p:nvPr/>
          </p:nvSpPr>
          <p:spPr>
            <a:xfrm rot="4026600">
              <a:off x="3618360" y="4572720"/>
              <a:ext cx="992160" cy="15811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5"/>
            <p:cNvSpPr/>
            <p:nvPr/>
          </p:nvSpPr>
          <p:spPr>
            <a:xfrm rot="6244200">
              <a:off x="2300400" y="5095800"/>
              <a:ext cx="846000" cy="14364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6"/>
            <p:cNvSpPr/>
            <p:nvPr/>
          </p:nvSpPr>
          <p:spPr>
            <a:xfrm rot="5247600">
              <a:off x="3131640" y="5842080"/>
              <a:ext cx="35856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7"/>
            <p:cNvSpPr/>
            <p:nvPr/>
          </p:nvSpPr>
          <p:spPr>
            <a:xfrm rot="3919800">
              <a:off x="4224240" y="5433840"/>
              <a:ext cx="431640" cy="12067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"/>
            <p:cNvSpPr/>
            <p:nvPr/>
          </p:nvSpPr>
          <p:spPr>
            <a:xfrm rot="6307800">
              <a:off x="2268360" y="5973840"/>
              <a:ext cx="21420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9"/>
            <p:cNvSpPr/>
            <p:nvPr/>
          </p:nvSpPr>
          <p:spPr>
            <a:xfrm rot="8644200">
              <a:off x="709200" y="4294440"/>
              <a:ext cx="593640" cy="1371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 rot="8836200">
              <a:off x="482400" y="4538520"/>
              <a:ext cx="16488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"/>
            <p:cNvSpPr/>
            <p:nvPr/>
          </p:nvSpPr>
          <p:spPr>
            <a:xfrm rot="9963000">
              <a:off x="70920" y="3646800"/>
              <a:ext cx="165240" cy="10080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 rot="10373400">
              <a:off x="209160" y="3147840"/>
              <a:ext cx="503280" cy="12906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 rot="10999200">
              <a:off x="0" y="2709360"/>
              <a:ext cx="92160" cy="9349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4"/>
            <p:cNvSpPr/>
            <p:nvPr/>
          </p:nvSpPr>
          <p:spPr>
            <a:xfrm rot="11186400">
              <a:off x="647640" y="2344680"/>
              <a:ext cx="1170000" cy="165564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5"/>
            <p:cNvSpPr/>
            <p:nvPr/>
          </p:nvSpPr>
          <p:spPr>
            <a:xfrm rot="5615400">
              <a:off x="3063600" y="74880"/>
              <a:ext cx="708120" cy="1368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6"/>
            <p:cNvSpPr/>
            <p:nvPr/>
          </p:nvSpPr>
          <p:spPr>
            <a:xfrm rot="5861400">
              <a:off x="3689640" y="-119520"/>
              <a:ext cx="176400" cy="79380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7"/>
            <p:cNvSpPr/>
            <p:nvPr/>
          </p:nvSpPr>
          <p:spPr>
            <a:xfrm rot="4835400">
              <a:off x="2730240" y="-165960"/>
              <a:ext cx="287280" cy="100152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8"/>
            <p:cNvSpPr/>
            <p:nvPr/>
          </p:nvSpPr>
          <p:spPr>
            <a:xfrm rot="3865200">
              <a:off x="1674360" y="82800"/>
              <a:ext cx="358920" cy="115236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9"/>
            <p:cNvSpPr/>
            <p:nvPr/>
          </p:nvSpPr>
          <p:spPr>
            <a:xfrm rot="2553000">
              <a:off x="816120" y="757080"/>
              <a:ext cx="250560" cy="10810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0"/>
            <p:cNvSpPr/>
            <p:nvPr/>
          </p:nvSpPr>
          <p:spPr>
            <a:xfrm rot="1571400">
              <a:off x="304920" y="1457280"/>
              <a:ext cx="141120" cy="960480"/>
            </a:xfrm>
            <a:prstGeom prst="ellipse">
              <a:avLst/>
            </a:prstGeom>
            <a:solidFill>
              <a:srgbClr val="33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31"/>
            <p:cNvSpPr/>
            <p:nvPr/>
          </p:nvSpPr>
          <p:spPr>
            <a:xfrm rot="1999200">
              <a:off x="631800" y="1260720"/>
              <a:ext cx="696960" cy="1386000"/>
            </a:xfrm>
            <a:prstGeom prst="ellipse">
              <a:avLst/>
            </a:prstGeom>
            <a:solidFill>
              <a:srgbClr val="e58d17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395280" y="1700280"/>
            <a:ext cx="4608360" cy="3384360"/>
          </a:xfrm>
          <a:prstGeom prst="rect">
            <a:avLst/>
          </a:prstGeom>
          <a:solidFill>
            <a:srgbClr val="437cc7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0" y="0"/>
            <a:ext cx="9215280" cy="836640"/>
          </a:xfrm>
          <a:prstGeom prst="rect">
            <a:avLst/>
          </a:prstGeom>
          <a:solidFill>
            <a:srgbClr val="f1bc7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541440" y="1773360"/>
            <a:ext cx="4535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нижения стигмы и дискриминац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Содержание кампании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ША. Слоган: У меня СПИД. Обними меня. Я не могу тебя заразить.</a:t>
            </a:r>
            <a:br>
              <a:rPr sz="1600"/>
            </a:br>
            <a:br>
              <a:rPr sz="1600"/>
            </a:br>
            <a:r>
              <a:rPr b="1" lang="ru-RU" sz="1500" spc="-1" strike="noStrike">
                <a:solidFill>
                  <a:srgbClr val="224472"/>
                </a:solidFill>
                <a:latin typeface="Arial"/>
              </a:rPr>
              <a:t>Результат:</a:t>
            </a: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а из наиболее сильно запомнившихся кампаний, способствовала уменьшению стигматизации людей, живущих с 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179280" y="115920"/>
            <a:ext cx="878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имеры социальных кампаний в СМИ. </a:t>
            </a:r>
            <a:br>
              <a:rPr sz="2400"/>
            </a:br>
            <a:r>
              <a:rPr b="1" lang="ru-RU" sz="2400" spc="-1" strike="noStrike">
                <a:solidFill>
                  <a:srgbClr val="437cc7"/>
                </a:solidFill>
                <a:latin typeface="Arial"/>
              </a:rPr>
              <a:t>Профилактика </a:t>
            </a:r>
            <a:r>
              <a:rPr b="1" lang="ru-RU" sz="2200" spc="-1" strike="noStrike">
                <a:solidFill>
                  <a:srgbClr val="437cc7"/>
                </a:solidFill>
                <a:latin typeface="Arial"/>
              </a:rPr>
              <a:t>ВИЧ/СП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6" descr="1987_US_hugMe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292720" y="1197000"/>
            <a:ext cx="34336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9:37:23Z</dcterms:created>
  <dc:creator>Dens</dc:creator>
  <dc:description/>
  <dc:language>en-US</dc:language>
  <cp:lastModifiedBy>EA</cp:lastModifiedBy>
  <dcterms:modified xsi:type="dcterms:W3CDTF">2009-06-29T06:39:07Z</dcterms:modified>
  <cp:revision>220</cp:revision>
  <dc:subject/>
  <dc:title>Цвыепык йпк</dc:title>
</cp:coreProperties>
</file>