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8D4-6239-463A-88F3-38DC4FE3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441-6639-4E7F-B445-5916FB6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643-703F-4741-8567-684485CF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3F4-73F3-463F-807B-03DA3BE9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49C-CC74-4C2E-BDB7-68C65497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DF8-3D11-439A-BDE4-CE66167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945-5ED7-4A2B-9A38-446A34F3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F4DA-C79D-4EF9-9D15-4AA059FA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59EA-9605-4BF6-A905-EEDBB88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5EF3-3362-49C8-B55D-7560354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8B6-0F93-4379-8088-C2E0DC2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407-E691-431C-B684-19BC55E2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B14B-317A-4899-AFDC-44CA6D2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C9B7-1006-4F97-A1D8-8C46242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BA4-0BE7-4246-AA0F-A649DFA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A29-8DA8-4C25-90BC-3FC501F7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58B-B726-4880-9962-5F1B553B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357-48A9-4FE1-8032-908456A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FD4-D09E-4A79-B647-83F3517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B8A-AB51-48F2-892F-FABA3290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8C5-D9FF-4EB3-B9D8-5F11539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B1D-0D58-44B4-8E0E-E61D700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E0A-0392-44A4-AAFB-5FFA072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0F1-3985-4910-BD16-EFD5F66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86ED-EAE3-4A41-BEE7-390A571AD3F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7DC-7F07-4584-961B-E2E33382776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ma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7212" r="0" b="0"/>
          <a:stretch/>
        </p:blipFill>
        <p:spPr>
          <a:xfrm>
            <a:off x="0" y="0"/>
            <a:ext cx="9220320" cy="6918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589360"/>
            <a:ext cx="861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564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г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0"/>
            <a:ext cx="8610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ММА им. И.М. Сеченова – 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зона чистого воздух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10666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адкевич Н.В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т. пр., к.м.н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4A60-442D-4E6F-B751-76110BAECB35}" type="slidenum">
              <a:t>1</a:t>
            </a:fld>
          </a:p>
        </p:txBody>
      </p:sp>
    </p:spTree>
  </p:cSld>
  <p:transition advTm="69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755280"/>
            <a:ext cx="82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Учебно-тематический план.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752480"/>
          <a:ext cx="8713800" cy="4079880"/>
        </p:xfrm>
        <a:graphic>
          <a:graphicData uri="http://schemas.openxmlformats.org/drawingml/2006/table">
            <a:tbl>
              <a:tblPr/>
              <a:tblGrid>
                <a:gridCol w="360360"/>
                <a:gridCol w="8353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ма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абакокурение. История появления и распространения табакокурения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имущества некурения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начала табакокурения среди детей и взрослых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рение как болезнь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ассивное курение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овременные методы отказа от курения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ратегия в отношении табакокурения в мире 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ак я могу повлиять на снижение курения среди окружающих меня людей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чет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166-60ED-4733-BE2B-9D7C6F56C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Обучение врачей практического звена здравоохран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31640" y="1557360"/>
            <a:ext cx="8208000" cy="4421160"/>
            <a:chOff x="431640" y="1557360"/>
            <a:chExt cx="8208000" cy="4421160"/>
          </a:xfrm>
        </p:grpSpPr>
        <p:cxnSp>
          <p:nvCxnSpPr>
            <p:cNvPr id="193" name="_s430094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98400" y="2662560"/>
              <a:ext cx="884880" cy="2210040"/>
            </a:xfrm>
            <a:prstGeom prst="bentConnector3">
              <a:avLst>
                <a:gd name="adj1" fmla="val 12983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96" name="_s430092"/>
            <p:cNvCxnSpPr>
              <a:stCxn id="197" idx="0"/>
              <a:endCxn id="195" idx="2"/>
            </p:cNvCxnSpPr>
            <p:nvPr/>
          </p:nvCxnSpPr>
          <p:spPr>
            <a:xfrm flipH="1" flipV="1" rot="5400000">
              <a:off x="2988360" y="2662200"/>
              <a:ext cx="884880" cy="2210760"/>
            </a:xfrm>
            <a:prstGeom prst="bentConnector3">
              <a:avLst>
                <a:gd name="adj1" fmla="val 12983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195" name="_s430088"/>
            <p:cNvSpPr/>
            <p:nvPr/>
          </p:nvSpPr>
          <p:spPr>
            <a:xfrm>
              <a:off x="2642040" y="1557360"/>
              <a:ext cx="3788280" cy="17683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Verdana"/>
                </a:rPr>
                <a:t>Обучение 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Verdana"/>
                </a:rPr>
                <a:t>врачей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_s430089"/>
            <p:cNvSpPr/>
            <p:nvPr/>
          </p:nvSpPr>
          <p:spPr>
            <a:xfrm>
              <a:off x="431640" y="4210200"/>
              <a:ext cx="3788280" cy="17683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99"/>
                  </a:solidFill>
                  <a:latin typeface="Verdana"/>
                </a:rPr>
                <a:t>Лекции 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99"/>
                  </a:solidFill>
                  <a:latin typeface="Verdana"/>
                </a:rPr>
                <a:t>в ЛПУ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_s430091"/>
            <p:cNvSpPr/>
            <p:nvPr/>
          </p:nvSpPr>
          <p:spPr>
            <a:xfrm>
              <a:off x="4851360" y="4210200"/>
              <a:ext cx="3788280" cy="17683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Verdana"/>
                </a:rPr>
                <a:t>Однодневные 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Verdana"/>
                </a:rPr>
                <a:t>Семинары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8DA-B47D-4CBD-AD44-A7222656F3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53352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Клиники ММА им. И.М. Сеченова, где были проведены лекции </a:t>
            </a:r>
            <a:br>
              <a:rPr sz="3600"/>
            </a:b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(июнь 2006-май 2007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иника пропедевтики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внутренних болезней, гастроэнтерологии и гепатологии им. В.Х. Василенк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     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иника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ефрологии, внутренних и профессиональных болезней им. Е.И. Тарее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     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ки ЦК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)     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иника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фтизиопульмонолог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)     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иника нервных болезней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им. А.Я. Кожевников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ликлиника ММА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им. И.М. Сечено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imes New Roman"/>
              </a:rPr>
              <a:t>Всего в ММА обучение прошло 600 врач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727-11A9-4CE1-A461-793ADF1E07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Однодневные обучающие семинары для врачей</a:t>
            </a:r>
            <a:br>
              <a:rPr sz="36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ноябрь 2006 и апрель 2007, ноябрь 2008 г.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пидемиология табакокур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следствия табакокурения для здоровь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временные методы помощи в отказе от табакокур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шение ситуационных зада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етоды профилактики табакокурения в Росси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должительность 6 час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533412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Обучение прошло 60 врачей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E92-F54E-4701-9680-37A2D772A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5219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Эффективность семинаров для враче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вышение практических зн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обретение практических навык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каз от ку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308-238A-498D-B9AB-CA1C5B580D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офилактическая работа среди студентов ММА им. И.М. Сечено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05440" cy="2948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05440" cy="29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163-635F-4784-B1D2-8E2B6A7BFB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Курение в учебных корпусах, клиниках клинического центра ММА им. И.М. Сечено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95280" y="2133720"/>
          <a:ext cx="822636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2263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84C-FAB6-439D-BA9D-21FC901A7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436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Центр медицинской помощи в отказе от кур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влечение курильщи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ведение групповых занятий и индивидуального консультирова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слеживание курильщиков и оценка эффектив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C0F-5CE0-4366-9400-4526BA679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61563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нформационная поддержка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nternet Portal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Академии Комиссий по противодействия табакокурению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www.mma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сточники информаци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M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obacco contro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GlobalLi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50C-7523-4944-80DB-15DFA2F92F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67120" y="1268280"/>
          <a:ext cx="52768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268280"/>
                    <a:ext cx="52768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55640" y="3573360"/>
          <a:ext cx="3078000" cy="32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573360"/>
                    <a:ext cx="30780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49F-053C-4A38-B1F4-9FE12EF87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92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Таблица 1.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Основные причины табакокурения среди студентов 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(на 100 студентов соответствующего пола и курса)</a:t>
            </a:r>
            <a:br>
              <a:rPr sz="24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1773360"/>
          <a:ext cx="8209080" cy="3633840"/>
        </p:xfrm>
        <a:graphic>
          <a:graphicData uri="http://schemas.openxmlformats.org/drawingml/2006/table">
            <a:tbl>
              <a:tblPr/>
              <a:tblGrid>
                <a:gridCol w="2737080"/>
                <a:gridCol w="1182600"/>
                <a:gridCol w="1471680"/>
                <a:gridCol w="1347840"/>
                <a:gridCol w="14698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кур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М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ый кур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-ый кур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ый кур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-ый кур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нятие напряж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,2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8,9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6,3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1,0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вышение работоспособ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5,4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,6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,1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,3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ремяпрепровожд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5,4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,4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,1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,8</a:t>
                      </a:r>
                      <a:endParaRPr b="0" lang="en-US" sz="17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E5F-BCFE-49FA-A15F-6683A896BC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иказ ректора «О мерах по профилактике табакокурения в ММА им. И.М. Сеченов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5805360"/>
            <a:ext cx="40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1 мая 2005 г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508640"/>
            <a:ext cx="88930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Verdana"/>
              </a:rPr>
              <a:t>Во исполнение Федерального закона «</a:t>
            </a:r>
            <a:r>
              <a:rPr b="0" i="1" lang="en-US" sz="2300" spc="-1" strike="noStrike">
                <a:solidFill>
                  <a:srgbClr val="006666"/>
                </a:solidFill>
                <a:latin typeface="Verdana"/>
              </a:rPr>
              <a:t>Об ограничении курения табака</a:t>
            </a:r>
            <a:r>
              <a:rPr b="0" lang="en-US" sz="2300" spc="-1" strike="noStrike">
                <a:solidFill>
                  <a:srgbClr val="006666"/>
                </a:solidFill>
                <a:latin typeface="Verdana"/>
              </a:rPr>
              <a:t>», принятого Государственной Думой 21 июня 2001 года, </a:t>
            </a:r>
            <a:br>
              <a:rPr sz="2300"/>
            </a:br>
            <a:r>
              <a:rPr b="0" lang="en-US" sz="2300" spc="-1" strike="noStrike">
                <a:solidFill>
                  <a:srgbClr val="006666"/>
                </a:solidFill>
                <a:latin typeface="Verdana"/>
              </a:rPr>
              <a:t>приказа министра здравоохранения Российской Федерации  "</a:t>
            </a:r>
            <a:r>
              <a:rPr b="0" i="1" lang="en-US" sz="2300" spc="-1" strike="noStrike">
                <a:solidFill>
                  <a:srgbClr val="006666"/>
                </a:solidFill>
                <a:latin typeface="Verdana"/>
              </a:rPr>
              <a:t>О мерах по профилактике курения в лечебно-профилактических учреждениях и Минздраве России</a:t>
            </a:r>
            <a:r>
              <a:rPr b="0" lang="en-US" sz="2300" spc="-1" strike="noStrike">
                <a:solidFill>
                  <a:srgbClr val="006666"/>
                </a:solidFill>
                <a:latin typeface="Verdana"/>
              </a:rPr>
              <a:t>" от 22 июня 1998 года,  </a:t>
            </a:r>
            <a:br>
              <a:rPr sz="2300"/>
            </a:br>
            <a:r>
              <a:rPr b="0" lang="en-US" sz="2300" spc="-1" strike="noStrike">
                <a:solidFill>
                  <a:srgbClr val="006666"/>
                </a:solidFill>
                <a:latin typeface="Verdana"/>
              </a:rPr>
              <a:t>в целях сохранения и укрепления здоровья обучающихся, преподавателей и сотрудников академии, а также в связи с несовместимостью курения медицинскими работниками и преподавателями с их профессиональным деятельностью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BF2-0601-4465-8E47-C6BBA2097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риказ ректора «О мерах по профилактике табакокурения в ММА им. И.М. Сеченов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ыделить вне помещений, использующихся для образовательного процесса, научных исследований, лечебно-профилактических мероприятий, проживания в общежитиях, общественного питания и служебных комнат, специальные места с указателями для курения табака и оборудовать их противопожарными средствами.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Запретить курение в учебных корпусах, клиниках, общежитиях, библиотеках, служебных и рабочих помещениях, за исключением специально отведенных мес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Запретить, начиная с июня 2005 г., продажу табачных изделий в учебных корпусах, клиниках, общежитиях, библиотека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ручить заведующим кафедрами всех факультетов ввести, начиная с сентября 2005 г., в рабочие учебные программы по реализуемым дисциплинам сведения о вредном воздействии продуктов курения табака на организм человека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ручить деканам факультетов, руководителям структурных подразделений академии довести настоящий приказ до сведения всех обучающихся и сотруднико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Рассматривать факты табакокурения сотрудниками и обучающимися в учебных корпусах, клиниках, общежитиях, библиотеках, в служебных и рабочих помещениях, за исключением специально отведенных мест, как нарушение внутреннего распорядка и Устава академи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Организовать оказание необходимой медицинской помощи студентам, преподавателям и сотрудникам, изъявившим желание отказаться от вредной привычк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D37-9AB5-4D58-8338-7DD212E56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7989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Комиссия по противодействию табакокурения при Ученом совете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10920" y="5084280"/>
            <a:ext cx="7993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остав Комиссии утвержден решением Ученого Совета Академии, 6 мая 2005 год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806A-E4AE-49BE-9F33-30E2C0F90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Цель работы комиссии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хранение и укрепление состояния здоровья сотрудников и обучающихся ММА им. И.М. Сеченова за счет увеличения числа некурящих в коллективе для реорганизации Академии в учреждение свободное от табакокур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A83-8559-4B76-8620-05148E6C64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Задачи работы Комиссии:</a:t>
            </a:r>
            <a:br>
              <a:rPr sz="4000"/>
            </a:b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едотвращение приобщения к табакокурению сотрудников и обучающихся Академ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тивация курящих сотрудников и обучающихся к отказу от табакокурения, и, как результат, увеличение числа отказов от табакокурения в Академ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рганизация и координация помощи в отказе от табакокурения для сотрудников и обучающихся Академ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ведение профилактической работы, направленной на предупреждение возврата к табакокурению среди бросивших кур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1B0-1ABE-463C-A46D-B1C579FA16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66"/>
                </a:solidFill>
                <a:latin typeface="Verdana"/>
              </a:rPr>
              <a:t>Направление деятельности: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ординация образовательной, воспитательной, лечебно-профилактической и организационно-методической деятельности в области контроля над табак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5B4-C838-4DA8-AED4-68E38E519B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Школа здоровья: «Курить или не курить? Сделай выбор в пользу здоровья».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Цель Школы: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ирование и привитие негативного отношения к табакокурению у студентов, повышение информированности в отношении последствий табакокурения для здоровья человека, а также повышение мотивации к отказу от куре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D3B-169D-4B54-B0A6-76157F150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7:02:48Z</dcterms:created>
  <dc:creator>Дмитрий и Наташа</dc:creator>
  <dc:description/>
  <dc:language>en-US</dc:language>
  <cp:lastModifiedBy>EA</cp:lastModifiedBy>
  <dcterms:modified xsi:type="dcterms:W3CDTF">2009-06-29T06:27:52Z</dcterms:modified>
  <cp:revision>537</cp:revision>
  <dc:subject/>
  <dc:title>Слайд 1</dc:title>
</cp:coreProperties>
</file>