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322-9E2C-4E6E-BD20-051102FA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50F-B722-4A23-B50C-2A21EB37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6FE-FCE4-46B7-8F95-69BFAA32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570-50B4-48CF-B367-75CB8EA0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759-A9C5-46A1-B088-1820EE4D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0FA-3ED5-4E6E-8FA4-BA64E25A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FCF-B12E-41F8-95A3-D0CABEAA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BBB-2D70-4BF9-9622-8A635D09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072-41E9-4049-AB03-AA5880B0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BA9-042E-4E98-AC12-C74A8267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95E-AC02-4CA7-9DBD-A3C24420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1AA-B5DB-44DD-9124-D0B56A60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94F2-5AB7-4850-A3B5-1FA2C94AF9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d4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457200"/>
            <a:ext cx="6934320" cy="24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600"/>
                </a:solidFill>
                <a:latin typeface="Arial"/>
              </a:rPr>
              <a:t>АЛКОГОЛЬНЫЙ  БИЗНЕ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5791320"/>
            <a:ext cx="6172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a"/>
                </a:solidFill>
                <a:latin typeface="Arial"/>
              </a:rPr>
              <a:t>А.В.Немц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a"/>
                </a:solidFill>
                <a:latin typeface="Arial"/>
              </a:rPr>
              <a:t>Московский НИИ психиатрии Росздра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64" name=""/>
          <p:cNvSpPr/>
          <p:nvPr/>
        </p:nvSpPr>
        <p:spPr>
          <a:xfrm>
            <a:off x="1905120" y="1523880"/>
            <a:ext cx="5638680" cy="4227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БЛАГОДАРЮ ЗА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210960"/>
            <a:ext cx="8839440" cy="73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  <a:ea typeface="Times New Roman"/>
              </a:rPr>
              <a:t>Все согласны в том, что табачная индустрия реагировала на подобны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  <a:ea typeface="Times New Roman"/>
              </a:rPr>
              <a:t>угрозы пассивно и неадекватно и чаще всего слишком поздно. Чтоб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33"/>
                </a:solidFill>
                <a:latin typeface="Arial"/>
                <a:ea typeface="Times New Roman"/>
              </a:rPr>
              <a:t>избежать участи табачной индустрии, которая несет все большие потери от снижения уровня курения в развитых странах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алкогольная индустрия поставила перед собой цель отвлечь внимание </a:t>
            </a:r>
            <a:r>
              <a:rPr b="0" lang="ru-RU" sz="2200" spc="-1" strike="noStrike" u="sng">
                <a:solidFill>
                  <a:srgbClr val="0033cc"/>
                </a:solidFill>
                <a:uFillTx/>
                <a:latin typeface="Times New Roman"/>
              </a:rPr>
              <a:t>г</a:t>
            </a:r>
            <a:r>
              <a:rPr b="0" lang="ru-RU" sz="22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осударственных органов и общественности от мер, которые действительно могли бы сократить потребление алкоголя и наносимый им ущерб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Но поскольку этот ущерб достаточно очевиден, необходимо было подсунуть обеспокоенным гражданам меры, которые выглядели бы как направленные на снижение этого ущерба, но не уменьшали бы при этом уровень продаж алкогольных</a:t>
            </a:r>
            <a:r>
              <a:rPr b="0" lang="ru-RU" sz="22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 напитков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990033"/>
                </a:solidFill>
                <a:latin typeface="Arial"/>
                <a:ea typeface="Times New Roman"/>
              </a:rPr>
              <a:t>Выполнение этой функции было отведено специальным организациям, которым вменялось в обязанность показать, что "прибыль и социальная ответственность вполне могут быть совместимы"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9000" y="5867280"/>
            <a:ext cx="77500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Times New Roman"/>
              </a:rPr>
              <a:t>Г</a:t>
            </a:r>
            <a:r>
              <a:rPr b="0" i="1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лава алкогольной компании "Гранд Метрополитен"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им Амблер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 (198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STIVA –</a:t>
            </a: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 Голланд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3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Portman-Goup – </a:t>
            </a: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Великобритан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9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ru-RU" sz="2000" spc="-1" strike="noStrike" u="sng">
                <a:solidFill>
                  <a:srgbClr val="003399"/>
                </a:solidFill>
                <a:uFillTx/>
                <a:latin typeface="Arial Unicode MS"/>
                <a:ea typeface="Times New Roman"/>
              </a:rPr>
              <a:t>The International Center for Alcohol Policies, ICAP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Washingt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USA</a:t>
            </a: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ждународный центр алкогольной полити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International Harm Reduction Association</a:t>
            </a:r>
            <a:r>
              <a:rPr b="0" lang="en-US" sz="20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, London, U.K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ждународная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асссоциация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нижения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ред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Institut de Recherches Scientifiques sur les Boiss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aris, France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учно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сследовательский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нститут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алкогольным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питкам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380880"/>
            <a:ext cx="708660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3399"/>
                </a:solidFill>
                <a:uFillTx/>
                <a:latin typeface="Arial Unicode MS"/>
                <a:ea typeface="Times New Roman"/>
              </a:rPr>
              <a:t>The International Center for Alcohol Policies, I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Финансируется крупнейшими алкогольными компаниям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Asahi Breweries, LTD.</a:t>
            </a: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Bacardi-Martini</a:t>
            </a: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Beam Global Spirits &amp; Wine</a:t>
            </a: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Brown-Forman Corporation</a:t>
            </a: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Diageo PLC</a:t>
            </a: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6.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Heineken N.V.</a:t>
            </a: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7.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InBev</a:t>
            </a: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8.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Molson Coors</a:t>
            </a: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9.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Pernod Ricard </a:t>
            </a: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10.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SABMiller PLC</a:t>
            </a: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11. </a:t>
            </a:r>
            <a:r>
              <a:rPr b="1" i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Scottish &amp; Newcastle</a:t>
            </a:r>
            <a:r>
              <a:rPr b="1" i="1" lang="en-GB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4880" y="-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61080" y="270000"/>
            <a:ext cx="4054320" cy="60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Раздел 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 Unicode MS"/>
                <a:ea typeface="Times New Roman"/>
              </a:rPr>
              <a:t>Развитие сотрудничества</a:t>
            </a:r>
            <a:r>
              <a:rPr b="1" i="1" lang="ru-RU" sz="1800" spc="-1" strike="noStrike">
                <a:solidFill>
                  <a:srgbClr val="0033cc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 Unicode MS"/>
                <a:ea typeface="Times New Roman"/>
              </a:rPr>
              <a:t>Глава 9 посвящена обсуждению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 Unicode MS"/>
                <a:ea typeface="Times New Roman"/>
              </a:rPr>
              <a:t> вклада отдельных основных заинтересованных лиц и организаций и подчеркивает значение сотрудничест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 Unicode MS"/>
                <a:ea typeface="Times New Roman"/>
              </a:rPr>
              <a:t>В главе 10 рассматривается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 Unicode MS"/>
                <a:ea typeface="Times New Roman"/>
              </a:rPr>
              <a:t>наличие возможного конфликта интересов и пути нахождения общего языка; подчеркивается возможность добиться решения общей проблемы совместными усилиями.</a:t>
            </a:r>
            <a:r>
              <a:rPr b="0" lang="ru-RU" sz="2000" spc="-1" strike="noStrike">
                <a:solidFill>
                  <a:srgbClr val="0033cc"/>
                </a:solidFill>
                <a:latin typeface="Arial Unicode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48320" y="152280"/>
            <a:ext cx="411480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924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2286000"/>
            <a:ext cx="39625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ИНЯЯ КНИГА IC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ОЕ РУКОВОДСТВ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ДЛЯ СПЕЦИАЛИСТОВ В ОБЛА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АЛКОГОЛЬНОЙ ПОЛИТИКИ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РАЗРАБОТКИ ЦЕЛЕНАПРАВЛЕ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Р ПО СНИЖЕНИЮ ПАГУБ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ОСЛЕДСТВИЙ ЗЛОУПОТРЕБ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АЛКОГОЛ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2276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1698480" cy="1951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040" y="419040"/>
            <a:ext cx="33688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одход, предлагаемый “Синей книгой”, основан на трёх ключевых элементах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одели потребления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алкоголя и их последствия как научная база для развития политик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целевые меры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направленные 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наиболее уязвимые группы 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потенциально опасные социальные условия и модели потреблени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отрудничество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жду рядом структур, включая государственный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частный сектор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неправительственные организации и общественность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762120"/>
            <a:ext cx="853452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Особенности модели потребления некоммерческого алкоголя среди сельского населения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7-и стра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роведено под эгидой </a:t>
            </a:r>
            <a:r>
              <a:rPr b="1" i="1" lang="ru-RU" sz="24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Международного центра алкогольной полит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Особенности российской модели потребления некоммерческого алкого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990033"/>
                </a:solidFill>
                <a:latin typeface="Arial Unicode MS"/>
                <a:ea typeface="Times New Roman"/>
              </a:rPr>
              <a:t>Г.Г.Заиграе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оциологические исследования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. 2002.  № 12. С. 33-41.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7:27:39Z</dcterms:created>
  <dc:creator>user</dc:creator>
  <dc:description/>
  <dc:language>en-US</dc:language>
  <cp:lastModifiedBy>EA</cp:lastModifiedBy>
  <dcterms:modified xsi:type="dcterms:W3CDTF">2009-06-29T06:31:47Z</dcterms:modified>
  <cp:revision>8</cp:revision>
  <dc:subject/>
  <dc:title>Презентация PowerPoint</dc:title>
</cp:coreProperties>
</file>