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26B-6D4D-46B5-AFE6-D7AD96CF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939-ED89-4D69-93A4-A8633B87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9BC-C3AD-4F46-9EBB-7AF3C5A6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B29-65A2-4401-BDD1-FB537781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2E277-DE00-4535-A215-CF1DB368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045F3-4EEA-4A01-BAD3-DD264C9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ECF41-6B59-473C-929A-77029E11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7298F-E96A-4550-A3E6-944469FE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08F72-8768-44AD-99E2-95965CD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CD6D-F5B2-46A4-A507-73B54C8F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9AE8-576A-4797-AF3D-CF79AC3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C4F-0B14-43E4-8C10-1DE974A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57674-B8F8-4360-923E-4AB0DF8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5C93-E96E-47E4-AB59-1CEF329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0A694-E8E1-4086-BFD6-7F154C94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BA72B-4C30-4147-809F-3FBAC4BF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0C6C-69A1-48E9-A713-77B41860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BF0-866E-4BDF-8482-99AB7AF9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471-BE35-43FB-8FFC-964BBE7B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96A-D10D-431B-90BF-5C7DBB5A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3DA-324B-4740-A124-34673AF5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2F0-F7C2-4439-B7D7-E532E65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B5E-5685-4DC1-9370-6D0FDD5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AEA-192F-4F03-B3CD-1D11D3A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0857-2D54-48DC-8634-2508A31F9B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0A2A-C414-44B6-B7B0-C4CC9979F1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-81360"/>
            <a:ext cx="9144000" cy="704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  <a:ea typeface="Arial"/>
              </a:rPr>
              <a:t>Дарья Андреевна Халту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Arial"/>
              </a:rPr>
              <a:t>Алкого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Arial"/>
              </a:rPr>
              <a:t>Проблемы и поли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Arial"/>
              </a:rPr>
              <a:t>Екатеринбург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1079640"/>
                <a:tab algn="l" pos="1438200"/>
                <a:tab algn="l" pos="1798560"/>
                <a:tab algn="l" pos="2158920"/>
                <a:tab algn="l" pos="2517840"/>
                <a:tab algn="l" pos="2876400"/>
                <a:tab algn="l" pos="3236760"/>
                <a:tab algn="l" pos="3597120"/>
                <a:tab algn="l" pos="3956040"/>
                <a:tab algn="l" pos="4316400"/>
                <a:tab algn="l" pos="4675320"/>
                <a:tab algn="l" pos="5035680"/>
                <a:tab algn="l" pos="5394240"/>
                <a:tab algn="l" pos="575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нципы алкогольной политики госуд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оритетом нормальной алкогольной политики является сфера общественного здоровья и социальное развит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лкогольная политика должна быть направлена не на тяжелых алкоголиков, а на все общество в цел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тя смертность выше среди алкоголиков, тем не менее большинство населения представляют собой умеренно пьющие, поэтому большинство страдающих от алкогольной смертности − не алкогол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Цели алкогольной поли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е потребления алког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северных стран особенно актуально сокращение потребления крепких напит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симальное сокращения потребления всех видов алкогольных напитков молодеж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е опасных форм потребления алкого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аиболее эффективные меры  включают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граничение доступности алкогол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экономическ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о време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 пространств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ногочисленные исследования показывают, что повышение цен на алкоголь и крепкие алкогольные напитки, в частности, является одной из наиболее действенных мер, позволивших снизить тяжесть алкогольных проблем во многих стран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о связано с тем, что спрос на алкоголь, как и на большинство товаров, обладает ценовой эластичностью (т.е. увеличение цен на алкогольные напитки приводит к снижению их потребл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73200" y="549360"/>
            <a:ext cx="822960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Решающим фактором сверхсмертности россиян являютс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кий градус потребляемых напитк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, поэтому параллельно с введением высоких акцизных ставок на суррогатную продукцию России необходим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увеличение стоимости водки по сравнению с пивом и вин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репленого вина по сравнению с некреплены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репкого пива по сравнению со слабы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Оптимальным является введение прогрессивной ставки акциза на алкогольную продукцию, прогрессивно увеличивающейся в зависимости от содержания этано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сьма опасными алкогольными напитками в современной России являются алкогольные суррогаты (одеколоны, «медицинские» настойки). Эти жидкости весьма токсичны, в первую очередь, из-за высокого содержания этано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денатурированные суррогаты должны безусловно облагаться налогами, при этом, возможно, имеет смысл установить даже бóльшую ставку акциза, чем на обычную алкогольную продукцию, чтобы потребитель гарантированно предпочел последнюю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ающий вклад в катастрофическую сверхсмертность в России вносят водка и самогон, поэтому на ограничение потребления водки и самогона должны быть направлены основные усилия алкогольной политики 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оказывают исследования Научного центра наркологии Минздрава РФ, нелегальная "паленая" водка и самогон столь же токсичны, как и качественная водка, и их опасность обусловлена не повышенной токсичностью примесей, а дешевизной, т.е. экономической доступностью для потребителя (Нужный, Савчук, Каюмов 2002; Нужный 2004; Нужный, Савчук 2005; Харченко с соавт. 2005а, 2005б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вероевропейские страны, прошедшие стадию тяжелых алкогольных проблем развития раньше, чем Россия, смогли справиться с тяжелой эпидемией алкоголизации введением высоких цен на крепкие алкогольные напит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13400" y="259920"/>
            <a:ext cx="4495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се североевропейские страны имели в определенный период модернизации период высокого потребления крепких напит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41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4417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4724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труктура потребления алкоголя в Норвегии в 1973 и 1999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291600"/>
            <a:ext cx="89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Алкогольные проблемы современной России принимают масштабы гуманитарной катастроф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395280" y="1409760"/>
            <a:ext cx="8170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североевропеской культуры, такой как российская, необходим разрыв между стоимостью одного и того же объема водки и пива не менее 10 ра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этого необходимо введение прогрессивного налога на содержащийся в спиртных напитках этано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этом, для качественного вина, возможно, стоит сделать ис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йственным средством борьбы с алкогольной смертностью является ограничение физической доступности алкогольных напитков во времени и пространств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сьма эффективен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прет на продаж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лкоголя или наиболее крепких напит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нерабочее врем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громное количество смертей в России происходит после того, как выпивающие решают "догнаться", идут ночью в ближайший работающий магазин и докупают спиртное. Нет никаких сомнений в том, что введение запрета на продажу алкогольной продукции или хотя бы крепких алкогольных напитков в нерабочее время помогло бы немедленно снизить уровень смертности в 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яде стран действует и приносит свои плоды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прет на продаж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лкогольных напитков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выходные д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тметим, что в выходные в России наблюдается заметный пик смертности (Школьников, Червяков 2000)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следования показывают, что чем меньше торговых точек, продающих алкоголь, тем меньше алкогольные смертность и преступ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лагоприятный эффект оказывает увеличение возраста начала легального потребления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обходимо добиться выполнения российского законодательства, запрещающего продажу алкоголя несовершеннолет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абоалкогольные напитки не должны продаваться в киос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ветом на тяжелую эпидемию пьянства в североевропейских странах стала государственная монополия на розничную продажу алког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а мера зарекомендовала себя как эффективное средство снижения алкогольных проблем и смертности в Швеции, Исландии, Норвегии, Финляндии, а также в Канаде, некоторых штатах США и т.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ая монополия, подразумевающая продажу алкоголя только в государственных заведениях, позволила государственным структурам регулировать бóльшую часть алкогольного рынка и добиться массового перехода населения от наиболее опасных крепких напитков к более легким, а в ряде случаев и снизить общее потреблени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монополия позволяет регулировать цены алкогольных напитков, в особенности крепки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чий день ограничивается дневным временем суток, количество таких точек ограниче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, например, на всю Норвегию насчитывается 157 магазинов, где разрешена продажа крепких алкогольных напитков (Угланд 2000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ывая тяжесть ситуации в России, этот вариант должен активно обсуждаться экспертным сообществом и широкой общественност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Что произошло с алкогольной смертностью в 2006 г.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нварь 2006 г. - увеличение проплаченного уставного капитала компаний-производителей спирта и алкогол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юль 2006 г. – введение системы ЕГАИС затрудняет деятельность алкогольного рын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 -  Производство спирта и водки снизилос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2006 г. умерло на 138 тыс. меньше человек, чем в 2005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331560"/>
            <a:ext cx="843588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Смертность сократилась в основном за счет алкоголезависимых причин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лкогольные отравления –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Убийства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убийства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ТП –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Болезни системы кровообращения –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100440"/>
            <a:ext cx="8435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ость от случайных отравлений алкоголем в 2004, 2005, 2006 г. по меся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360" y="1008000"/>
            <a:ext cx="777528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ОЛИЧЕСТВО СМЕРТЕЙ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ПРОИЗВОДСТВО СПИРТА В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052640"/>
          <a:ext cx="86868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86868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 алкоголя умирают до полумиллиона россиян в год (Немцов 2001, 2003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мографический кризис России в высокой степени является результатом алкогольной сверхсмерт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реда российского общества подверглась колоссальной деградации вследствие алкоголизма и связанного с алкоголем насилия, преступности, убийств, самоубийств, инвалидизации, разводов, абортов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должительность жизни мужчин и женщин и потребление алкоголя в России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Росстат, Немцов 2003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1900"/>
            </a:br>
            <a:r>
              <a:rPr b="1" lang="en-US" sz="1900" spc="-1" strike="noStrike">
                <a:solidFill>
                  <a:srgbClr val="000099"/>
                </a:solidFill>
                <a:latin typeface="Tahoma"/>
              </a:rPr>
              <a:t>Life Expectancy for Men and Women and Alcohol Consumption in Russi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413000"/>
          <a:ext cx="91440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ОЛИЧЕСТВО СМЕРТЕЙ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ПРОИЗВОДСТВО СПИРТА В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052640"/>
          <a:ext cx="86868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86868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отребление крепких алкогольных напитков (в литрах чистого спирта на взрослого человека в год) и ожидаемая продолжительность жизни в годах) в 2001 г. в постсоциалистических странах пивного и водочного поя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36720" y="907920"/>
          <a:ext cx="69483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907920"/>
                    <a:ext cx="6948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245040" y="6446160"/>
            <a:ext cx="26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− 0,93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0, 000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64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жидаемая продолжительность жизни мужчин и потребление крепких напитков (включая нерегистрируемое) в Европе 1995-2005 гг. (среднее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оссия входит в пояс склонных к особенно тяжелым алкогольным проблемам североевропейских стр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пояс включает скандинавские страны, Финляндию, Шотландию, Ирландию, Исландию, страны Балтии, восточнославянские и некоторые центральноевропейские ст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ишет норвежский исследователь Кнут Брофосс, «этот пояс крепких напитков характеризуется тремя чертами. Первое − крепкие напитки являются традиционно предпочитаемыми напитками. Второе − когда потребляют алкоголь, его потребляют в больших количествах. Не пьют просто так, а чтобы напиться. Третье − пьянство связано с шумным и грубым поведением: вести себя так, когда ты пьян, считается правильным» (Брофосс 2000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49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лкогольная полити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родились в североевропейских странах, где рост уровня жизни на фоне модернизации привел к распространению тяжелых форм пьянства с преимущественным потреблением крепких напитков еще 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IX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и сам термин и связанные с ним подходы широко распространены во всех регионах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4:46:09Z</dcterms:created>
  <dc:creator>Дарья Халтурина</dc:creator>
  <dc:description/>
  <dc:language>en-US</dc:language>
  <cp:lastModifiedBy>EA</cp:lastModifiedBy>
  <dcterms:modified xsi:type="dcterms:W3CDTF">2009-06-29T06:35:13Z</dcterms:modified>
  <cp:revision>114</cp:revision>
  <dc:subject/>
  <dc:title>Слайд 1</dc:title>
</cp:coreProperties>
</file>