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7EC-F794-43EE-8060-E6BB73BE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EF8-E2E3-42F5-A292-C9CE6620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1F7-5DE2-499F-889D-436DE9B8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CC4-E376-4506-B97C-64958205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7AA-86A5-4371-B3E3-46ED8EC2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B99-1F86-4EA6-9208-A31572A9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455-A9A0-4BB1-8164-CA2D8AD6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270-32CA-47A1-9CF2-50FA0FAF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25C-B088-4004-9690-738F3FE6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0CC-81F1-433A-82E1-2FB89483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3A4-5D02-42AA-BC11-484E7A4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E79-62C7-444E-9C4E-7CEA30E5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3B5-F0B8-4538-B63B-3E311A7348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астие Тверской медакадеми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формировании здорового образа жизн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населения Тверской области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прошлого и настоящее, к будущ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.м.н. Н.П.Кирилен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.м.н. И.А.Жмак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ерь, 2009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Тверской медакадемии провед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научная конферен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оциально-медицинские аспекты состояния здоровья и среды обитания населения, проживающего в йоддефицитных регионах России и стран СНГ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нт Российского гуманитарного научного фон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200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российская научная конферен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доровье молодежи и будущее России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нт Российского гуманитарного научного фон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научная конферен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ловек, питание, здоровье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нт Российского гуманитарного научного фон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Тверской медакадемии провед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российская научная конферен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еждународным участием «Демографическая ситуация в современной России: состояние и перспективы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нт Российского гуманитарного научного фон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200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ъезд Российс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а медицинск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От фундаментальной науки – к медицинской практике», 200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Тверской медакадем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00-2001 гг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ялась НИР в рамках Государственного контра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Создание технологий снижения экологически обусловленных заболеваний с использованием медико-профилактических и диетологических подходов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08-2009 гг. выполн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теме: «Разработка гликаносодержащих составов на основе растительного сырья для регулирования пищеварительной системы человека»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контракта Федеральной целевой программы. «Здравица-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и внедрены в практику работы медицинских учреждений г. Твери и области ря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логически активных добавок к пищ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«Здравица», «Здравица-Л», «Здравица-К», «Здравица с хитозаном» и др. Их выпуск налажен на мал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приятии ООО «Здравица», созданным при участии проф. В.Ф.Виноград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Тверской медакадем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мках Федеральной целевой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сследования и разработки по приоритетным направлениям развития науки и техники. 2007-2012 годы.»  выполняется (2008 и 2009 гг.) работа по теме: «Оценка антагонистической активности штаммов стартерны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 заквас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го внес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биотехнологической промышле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а «Формирование здоровья подростк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бразовательных учреждениях в аспекте реализации здоровьесберегающих технологий», ставшая победителем конкур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ранты Тверской области в сфере образования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трудничество Тверской медакадем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другими вузами г. Тве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9976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тверждение в апреле 2006 г. Советом ректоров Тверских вузов межвузовского центра «Основы здоровья человек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ог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беседы-занятия с 2500 студентами тверских вузов (студент обучает студент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щены методические пособ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Основы здоровья челове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Занимательная нутрициолог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Ржаное лекарств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одятся межвузовские конферен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итание и здоровье студентов» и «Модернизационные процессы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о выпускается приложение «Здоровое питание» к газете Тверская газ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щено два номера газеты  «Здоровое питание», которые были розданы первокурсникам Тверских вуз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а акция в столовой медакадемии «Здоровое пита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трудничество межвузовского центра «Основы здоровья человека» с Администрацией области, Тверской епархией РПЦ и ЗАО «Хлеб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   2007 г. Разработана программа «Индустрия пропаганды здорового образа жизни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родвижение  идеологии трезвост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артамент здравоохра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Здоровье через рациональное питание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артамент промышленного производства, торговли и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Здоровье через хлеб и его оздоровительные сорта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артамент промышленного производства, торговли и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олодежь в пропаганде здорового образа жизн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артамент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Духовный рост и творческое саморазвитие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артамент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Районные центры в пропаганде здорового образа жизн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артамент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Развитие высокотехнологических форм пропаганды здорового образа жизн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артамент промышленного производства, торговли и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ы реализации «Концепции»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 2007-2010 гг. – разработка ДЦП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 2011-2015 гг. – внедрение ДЦ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лодежь в пропаганде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вуз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сновы здоровья челове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124080" y="3200400"/>
            <a:ext cx="29718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ные студ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572000" y="2852640"/>
            <a:ext cx="485640" cy="347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990720" y="5029200"/>
            <a:ext cx="16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У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895480" y="495288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ку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дж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76920" y="495288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це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705720" y="5029200"/>
            <a:ext cx="16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1828800" y="426708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 flipH="1">
            <a:off x="37339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5029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5791320" y="42670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28800" y="6019920"/>
            <a:ext cx="5486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лены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37339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5627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6933960" y="56386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ложение по повы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ивности работы Цент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0020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ть на Совете ректоров Тверских вузов прое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«Организация волонтерского движения с целью более активного формирования  ЗОЖ среди студентов тверских вузов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ложение межвузовского центр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знес-сообществу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  2008 г. «Здоровье работающего населен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здорового образа жизни на рабочем мест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анкетирование с целью выявления хронических неинфекционных заболеваний и факторов риска их развит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устранение факторов риска развития хронических неинфекционных заболева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мониторинг здоровья трудя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оздание и распространение памяток и брошюр по формированию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проведение конкурсов по сохранению и укреплению здоров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 заболеваемости с временной и стойкой утратой трудоспособности, создание электронной базы данных по нетрудоспособ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электронного паспорта здоровья трудя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электронной базы данных здоровья трудя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социальных механизмов сохранения здоровья трудя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онное обеспечение лиц, занятых на производст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дрение международного проекта «Здоровье работающего населения. 2007 – 20015 гг.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Тверской медакадемии с бизнес-сообще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200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здорового пи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еления Тверской обла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 основе обеспечения функциональными и профилактическими (диетическими) хлебобулочными изделиями на 2009-2013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гг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уальность формирования ЗО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 текст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Демографическая политика Российской Федерации на период до 2025 год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ено, что решение задачи по сокращению уровня  смертности насе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усматрив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ной систе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и факторов ри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я образовательных программ и разработки механизмов поддержки общественных инициатив, направленных на укрепление здоровья насе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оприят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улучшению демографической ситуации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ериод до 2010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о, что среди основных направлений улучшения демографической ситуации в Тверской области –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мертности, прежде всего от управляемых прич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реди задач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 у населения установок на ЗОЖ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деятельность</a:t>
            </a:r>
            <a:br>
              <a:rPr sz="1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итут гигиены и медицинской эколог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. А.М.Марзеева АМН Украины, г. Киев</a:t>
            </a: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10-2014 гг. Характер питания, микроэлементозы и здоровье жителей г. Твери и области (Россия), г. Киева и области (Украина) в условиях меняющейся социальной ситуации в обществе и возможности массовой, групповой и индивидуальной коррекции пищевого стату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ые задач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оздание региональной модели управления пищевым статусом и полноценного обеспечения населения макро- и микроэлемент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оздание электронного паспорта здоровья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ути реализации и экономическая целесооб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внутренних резервов кафед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анкетирование студентов и их исследование  с учетом научного направления кафедр и создание электронной базы да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урсовые работы врачей-курсантов по материалам анкетирования жителей своего участ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внутренних резервов «Поликлиники»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кетирование обратившихся и учет данных их обследования с целью создания электронной базы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кафедр с единым контингентом обследованных позволит получить обширную научную информацию для теоретических и клинических кафедр при более меньших экономических затратах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метаболический синдром (ожирение, АГ, липиды), здоровье (сердце, иммунная система, репродуктивное здоровье и т.д.) и наследствен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зм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точники финансирования ЗО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5029200" y="5445000"/>
            <a:ext cx="3276720" cy="1184400"/>
          </a:xfrm>
          <a:prstGeom prst="wedgeRoundRectCallout">
            <a:avLst>
              <a:gd name="adj1" fmla="val -97675"/>
              <a:gd name="adj2" fmla="val -13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003640" y="5516640"/>
            <a:ext cx="3276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 реклам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5651640" y="3933720"/>
            <a:ext cx="2514600" cy="1395360"/>
          </a:xfrm>
          <a:prstGeom prst="wedgeRoundRectCallout">
            <a:avLst>
              <a:gd name="adj1" fmla="val -90467"/>
              <a:gd name="adj2" fmla="val 118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наци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ьный про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доровь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1600200"/>
            <a:ext cx="1981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284720" y="1268280"/>
            <a:ext cx="3962520" cy="990720"/>
          </a:xfrm>
          <a:prstGeom prst="wedgeRoundRectCallout">
            <a:avLst>
              <a:gd name="adj1" fmla="val -65703"/>
              <a:gd name="adj2" fmla="val 2043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356000" y="1413000"/>
            <a:ext cx="3429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стная целевая программа, социальный зак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928800" y="3657600"/>
            <a:ext cx="385740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н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Социальная рекл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доровь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28600" y="2895480"/>
            <a:ext cx="2514600" cy="533520"/>
          </a:xfrm>
          <a:prstGeom prst="wedgeRoundRectCallout">
            <a:avLst>
              <a:gd name="adj1" fmla="val 7574"/>
              <a:gd name="adj2" fmla="val 158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67560" y="286056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жертв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1042920" y="1143000"/>
            <a:ext cx="3071880" cy="1600200"/>
          </a:xfrm>
          <a:prstGeom prst="wedgeRoundRectCallout">
            <a:avLst>
              <a:gd name="adj1" fmla="val 20851"/>
              <a:gd name="adj2" fmla="val 107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116000" y="121932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трудничество с предприят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щ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5724360" y="2637000"/>
            <a:ext cx="2664000" cy="1079280"/>
          </a:xfrm>
          <a:prstGeom prst="wedgeRoundRectCallout">
            <a:avLst>
              <a:gd name="adj1" fmla="val -105004"/>
              <a:gd name="adj2" fmla="val 83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354000" y="2643120"/>
            <a:ext cx="2014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ев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ханизм реализаци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ого зака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формирование здорового образа жизни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дминистрации Тверской области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ластного фонда при медакадемии «Социальная реклама и здоровье» и районных фондов «Здоровье малой Родины» при медицинских училищах и педагогических колледжах с целью вовлечения широких масс учащейся молодежи в процесс формирования здорового образа жизни среди населения Тверской обла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дущее в консолид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повышения эффективности пропаганды ЗОЖ среди населения Тверской области необходима консолидация усилий Администрации Тверской области, бизнес-сообщества, Тверской епархии РПЦ, Тверской медакадемии и  общественных организац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жедневное потребление продуктов питания студен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133200" y="1341360"/>
          <a:ext cx="90298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341360"/>
                    <a:ext cx="90298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1800" y="639720"/>
            <a:ext cx="734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алобы студ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571680" y="1181160"/>
          <a:ext cx="817236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181160"/>
                    <a:ext cx="817236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9036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астота потребления свежих фруктов и уровень 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3" descr=""/>
          <p:cNvPicPr/>
          <p:nvPr/>
        </p:nvPicPr>
        <p:blipFill>
          <a:blip r:embed="rId1"/>
          <a:stretch/>
        </p:blipFill>
        <p:spPr>
          <a:xfrm>
            <a:off x="0" y="1409760"/>
            <a:ext cx="4427640" cy="2749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606760" y="1677960"/>
            <a:ext cx="1409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ject 5" descr=""/>
          <p:cNvPicPr/>
          <p:nvPr/>
        </p:nvPicPr>
        <p:blipFill>
          <a:blip r:embed="rId2"/>
          <a:stretch/>
        </p:blipFill>
        <p:spPr>
          <a:xfrm>
            <a:off x="4425840" y="1413000"/>
            <a:ext cx="4718160" cy="272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MGP3900"/>
          <p:cNvPicPr/>
          <p:nvPr/>
        </p:nvPicPr>
        <p:blipFill>
          <a:blip r:embed="rId3"/>
          <a:stretch/>
        </p:blipFill>
        <p:spPr>
          <a:xfrm>
            <a:off x="4140360" y="4286160"/>
            <a:ext cx="3860640" cy="2347920"/>
          </a:xfrm>
          <a:prstGeom prst="rect">
            <a:avLst/>
          </a:prstGeom>
          <a:ln w="57240">
            <a:solidFill>
              <a:srgbClr val="9999ff"/>
            </a:solidFill>
            <a:miter/>
          </a:ln>
        </p:spPr>
      </p:pic>
      <p:pic>
        <p:nvPicPr>
          <p:cNvPr id="56" name="Picture 7" descr="груша"/>
          <p:cNvPicPr/>
          <p:nvPr/>
        </p:nvPicPr>
        <p:blipFill>
          <a:blip r:embed="rId4"/>
          <a:stretch/>
        </p:blipFill>
        <p:spPr>
          <a:xfrm>
            <a:off x="1000080" y="4286160"/>
            <a:ext cx="2779920" cy="2382840"/>
          </a:xfrm>
          <a:prstGeom prst="rect">
            <a:avLst/>
          </a:prstGeom>
          <a:ln w="38160">
            <a:solidFill>
              <a:srgbClr val="9999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04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реблени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 пищей и уровень 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3"/>
          <p:cNvGraphicFramePr/>
          <p:nvPr/>
        </p:nvGraphicFramePr>
        <p:xfrm>
          <a:off x="0" y="1052640"/>
          <a:ext cx="471636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471636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4"/>
          <p:cNvGraphicFramePr/>
          <p:nvPr/>
        </p:nvGraphicFramePr>
        <p:xfrm>
          <a:off x="4788000" y="3068640"/>
          <a:ext cx="4356000" cy="3600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068640"/>
                    <a:ext cx="4356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457200" y="533520"/>
          <a:ext cx="81532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218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болеваемость ГБ и ИБ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фоне «деформации человеческой культуры питания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инамика продаж ржаной муки и кондитерских издел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0" y="1333440"/>
          <a:ext cx="461016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3440"/>
                    <a:ext cx="46101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4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0" y="3581280"/>
          <a:ext cx="88740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81280"/>
                    <a:ext cx="8874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6"/>
          <p:cNvGraphicFramePr/>
          <p:nvPr/>
        </p:nvGraphicFramePr>
        <p:xfrm>
          <a:off x="3995640" y="1341360"/>
          <a:ext cx="4824360" cy="269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1341360"/>
                    <a:ext cx="482436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ложения по улучшению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ить долю (с 1,1% до 5% ) финансирования на информационную пропаганду ЗОЖ, так как из израсходованных в 2008 г. 917982,2 тыс. рублей непосредственно на пропаганду ЗОЖ выделено бюджетом Тверской области всего 10053 тыс. рублей, что составило 1,1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общественных структу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вузовский центр обучения «Основы здоровья человека», некоммерческий фонд «Социальная реклама и здоровье» и д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ормирующих ЗОЖ, с помощью использования механизма социального зак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использовать потенциал ТГМА в проблеме формирования ЗОЖ  среди населения Твер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t4er</dc:creator>
  <dc:description/>
  <dc:language>en-US</dc:language>
  <cp:lastModifiedBy>Ket4er</cp:lastModifiedBy>
  <dcterms:modified xsi:type="dcterms:W3CDTF">2009-06-06T17:20:45Z</dcterms:modified>
  <cp:revision>49</cp:revision>
  <dc:subject/>
  <dc:title>PowerPoint Presentation</dc:title>
</cp:coreProperties>
</file>