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1C1-1631-4A30-8DA1-C26B8D6C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31E-CE07-4904-84DB-20C04DF2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01A-ED37-412E-9939-87FEBDF0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108-D848-4A5E-B6A4-3F4B21DA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205-5CAA-4A5D-85C5-181284E2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304-20F0-4BC9-94FB-E6B3C95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70D-9DEC-40D0-B286-02551219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DC1-CCB5-484C-A068-A4E6E488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BB3-77E4-4830-8929-41B22BF3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094-A27F-4D13-8812-F06BAB8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2CD-7DF8-4A0A-A270-D93BEAC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FE3-AB96-4A06-9B9C-F8527CE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B271-95C2-4F39-A4BF-EB6BA54B57AE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74F1-00E1-4AFF-AD08-39C0FE43DB70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2214720"/>
            <a:ext cx="900108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a"/>
                </a:solidFill>
                <a:latin typeface="Arial"/>
              </a:rPr>
              <a:t>«Гигиенические аспекты питания детей в организованных коллектив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27"/>
          <p:cNvSpPr/>
          <p:nvPr/>
        </p:nvSpPr>
        <p:spPr>
          <a:xfrm>
            <a:off x="152280" y="5334120"/>
            <a:ext cx="8763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Bookman Old Style"/>
              </a:rPr>
              <a:t>_________________________________________________________________________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Bookman Old Style"/>
              </a:rPr>
              <a:t>г.</a:t>
            </a: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Тверь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Bookman Old Style"/>
              </a:rPr>
              <a:t>200</a:t>
            </a: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9</a:t>
            </a:r>
            <a:r>
              <a:rPr b="1" i="1" lang="ru-RU" sz="1800" spc="-1" strike="noStrike">
                <a:solidFill>
                  <a:srgbClr val="ffffcc"/>
                </a:solidFill>
                <a:latin typeface="Bookman Old Style"/>
              </a:rPr>
              <a:t> год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" name="Picture 1029" descr="29075"/>
          <p:cNvPicPr/>
          <p:nvPr/>
        </p:nvPicPr>
        <p:blipFill>
          <a:blip r:embed="rId1"/>
          <a:stretch/>
        </p:blipFill>
        <p:spPr>
          <a:xfrm>
            <a:off x="152280" y="152280"/>
            <a:ext cx="2419560" cy="21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1" descr="200802060200402"/>
          <p:cNvPicPr/>
          <p:nvPr/>
        </p:nvPicPr>
        <p:blipFill>
          <a:blip r:embed="rId2"/>
          <a:stretch/>
        </p:blipFill>
        <p:spPr>
          <a:xfrm>
            <a:off x="6095880" y="152280"/>
            <a:ext cx="2619360" cy="22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3" descr="i103314-contentImage1_1-original"/>
          <p:cNvPicPr/>
          <p:nvPr/>
        </p:nvPicPr>
        <p:blipFill>
          <a:blip r:embed="rId3"/>
          <a:stretch/>
        </p:blipFill>
        <p:spPr>
          <a:xfrm>
            <a:off x="3124080" y="228600"/>
            <a:ext cx="2448000" cy="2108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35"/>
          <p:cNvSpPr/>
          <p:nvPr/>
        </p:nvSpPr>
        <p:spPr>
          <a:xfrm>
            <a:off x="8388360" y="5791320"/>
            <a:ext cx="755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14200" y="408636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В.А.Синода – Руководитель Управления Роспотребнадзора по Твер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                     Заведующий кафедрой гигиены с экологией и курсом гигиены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детей и подростков ТГМА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                     Кандидат медицинских наук</a:t>
            </a:r>
            <a:endParaRPr b="1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72C-FF99-42B6-9AF6-E944368BF4D1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627280" y="33336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fbfb"/>
                </a:solidFill>
                <a:latin typeface="Bookman Old Style"/>
              </a:rPr>
              <a:t>В Тверской области питание учащихся организовано: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79280" y="206064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5345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66840" y="2438280"/>
            <a:ext cx="83818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1 % в столовых, работающих на сырье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66840" y="3124080"/>
            <a:ext cx="838188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,5 % - столовых, работающих на полуфабрикатах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66840" y="5013360"/>
            <a:ext cx="83818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% - в буфете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66840" y="4292640"/>
            <a:ext cx="83818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,5 % - в буфете-раздаточной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14" descr="m_4261"/>
          <p:cNvPicPr/>
          <p:nvPr/>
        </p:nvPicPr>
        <p:blipFill>
          <a:blip r:embed="rId1"/>
          <a:stretch/>
        </p:blipFill>
        <p:spPr>
          <a:xfrm>
            <a:off x="250920" y="18900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6185-2277-4150-A656-095FCA484156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61560"/>
            <a:ext cx="878508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ват школьников горячим пит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00160" y="2954160"/>
            <a:ext cx="811512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Из них по Тверской обла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чащихся начальных классов – 94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5-11 классов – 76,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071720" y="1515960"/>
            <a:ext cx="2857320" cy="76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3,4 %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143680" y="1515960"/>
            <a:ext cx="2857320" cy="76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4,3 %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1034280" y="9288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Тверская область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6074280" y="928800"/>
            <a:ext cx="7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РФ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1211-0421-4BB4-8712-4029C5F62151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727200"/>
            <a:ext cx="878508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инансирование горячего питания учащихся начальных классов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Тверской области 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71680" y="2336760"/>
            <a:ext cx="811512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з областного бюджета выделено 54,8 млн. рублей на 43511 учащихся из расчета 20 руб. в день н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79280" y="200016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72CA-A038-491E-891C-EDA942927F21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727200"/>
            <a:ext cx="878508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инансирование горячего питания детей, попавших в трудную жизненную ситуацию Тверской области 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7120" y="2336760"/>
            <a:ext cx="832968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з областного бюджета выделено 40,9 млн. рублей на 11624 учащихся 5-11 классов из расчета 20 руб. в день н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79280" y="200016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61FC-4C86-4EAB-8A39-45B001F1E26A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356760"/>
            <a:ext cx="88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НАИБОЛЕЕ РАСПРОСТРАНЕННЫЕ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РУШЕНИЯ  В ОРГАНИЗАЦИИ ПИТАНИЯ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В ШКО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460160"/>
            <a:ext cx="8588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УДОВЛЕТВОРИТЕЛЬНАЯ ОСНАЩЕННОСТЬ ПИЩЕБЛОКОВ ТЕХНОЛОГИЧЕСКИМ И ХОЛОДИЛЬНЫМ ОБОРУДОВАНИЕМ И КУХОННЫМ ИНВЕНТАР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ДОСТАТОЧНОЕ ЧИСЛО ПОСАДОЧНЫХ МЕСТ В ШКОЛЬНЫХ СТОЛОВ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УДОВЛЕТВОРИТЕЛЬНАЯ ОРГАНИЗАЦИЯ СНАБЖЕНИЯ ПИЩЕБЛОКОВ ПРОДУКТАМИ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РУШЕНИЯ ПРИНЦИПОВ СОСТАВЛЕНИЯ МЕНЮ, СОПРЯЖЕННЫЕ С НАРУШЕНИЕМ ПИЩЕВОЙ ЦЕННОСТИ РАЦИО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РУШЕНИЯ РЕЖИМА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ДОСТАТОЧНЫЙ ОХВАТ ГОРЯЧИМ ПИТАНИЕМ, ОСОБЕННО ШКОЛЬНИКОВ СРЕДНИХ И СТАРШИХ КЛАС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УДОВЛЕТВОРИТЕЛЬНЫЙ АССОРТИМЕНТ ПРОДУКТОВ ПИТАНИЯ В ШКОЛЬНЫХ БУФЕ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ЕВЫСОКИЕ ОРГАНОЛЕПТИЧЕСКИЕ СВОЙСТВА БЛЮ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ИЗКАЯ КВАЛИФИКАЦИЯ ПЕРСОНАЛА ПИЩЕБЛО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838080" y="1428840"/>
            <a:ext cx="7239240" cy="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388360" y="5791320"/>
            <a:ext cx="755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3AC-6A44-4F8F-AE1A-B4DFF718F723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6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сновные задачи по улучшению организации детского питания</a:t>
            </a:r>
            <a:br>
              <a:rPr sz="2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89120"/>
            <a:ext cx="86644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зработать областную целевую программу по организации детского пит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создать специализированные комбинаты детского питания, оснащенные современным технологическим и холодильным оборудова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птимизировать рационы пит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беспечить 100% охват школьников горячим пит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388360" y="5791320"/>
            <a:ext cx="755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79280" y="135720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E754-4222-4234-A48B-69587C281599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6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Управление Роспотребнадзора по Тверской области предлагает:</a:t>
            </a:r>
            <a:br>
              <a:rPr sz="2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689120"/>
            <a:ext cx="86644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1. Принять меры, направленные на улучшение санитарно-эпидемиологического состояния образовательных учреждений, в том числе по оснащению пищеблоков современным технологическим и холодильным оборудова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2.  Принять меры, направленные на обеспечение всех школьников  двухразовым горячим питанием, а детей, посещающих группы продленного дня – трехразовым, а так же продуктами питания, обогащенными комплексами витаминов и минеральных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3. Проводить  обучение населения принципам здорового питания; проводить мероприятия, направленные на профилактику заболеваний детского населения, связанных с недостатком поступления микронутриентов (флюороз, кариес, йод-дефицитные состояния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4. Обеспечить организованные контингенты детского населения  сбалансированным здоровым питанием, добиться снижения частоты заболеваний, обусловленных некачественным пита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5. Разработать стандарты здорового питания по применению пищевых добавок натурального происхождения и ряда эссенциальных компонентов в продуктах питания для детей с патологией внутренних орга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6. Обеспечить улучшение структуры питания за счет увеличения доли продуктов массового потребления с высокой пищевой и биологической ценностью (в том числе на 20-30% продуктов, обогащенных витаминами и минеральными вещества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388360" y="5791320"/>
            <a:ext cx="755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79280" y="135720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7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5DC3-ADB5-457B-8168-03DA9AB1F2AE}" type="slidenum">
              <a:rPr b="0" lang="en-US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5640" y="277560"/>
            <a:ext cx="5715000" cy="15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БЛАГОДАРЮ ЗА ВНИМАНИЕ!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ОТКРЫТЫ К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280" y="2338200"/>
            <a:ext cx="698508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eceef"/>
                </a:solidFill>
                <a:latin typeface="Arial"/>
              </a:rPr>
              <a:t>Синода Витали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eceef"/>
                </a:solidFill>
                <a:latin typeface="Arial"/>
              </a:rPr>
              <a:t>Руководитель Управления Роспотребнадзора по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eceef"/>
                </a:solidFill>
                <a:uFillTx/>
                <a:latin typeface="Arial"/>
              </a:rPr>
              <a:t>Адрес:</a:t>
            </a:r>
            <a:r>
              <a:rPr b="0" lang="ru-RU" sz="1800" spc="-1" strike="noStrike">
                <a:solidFill>
                  <a:srgbClr val="ceceef"/>
                </a:solidFill>
                <a:latin typeface="Arial"/>
              </a:rPr>
              <a:t> 170034, Тверь, ул. Дарвина,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eceef"/>
                </a:solidFill>
                <a:uFillTx/>
                <a:latin typeface="Arial"/>
              </a:rPr>
              <a:t>Телефон:</a:t>
            </a:r>
            <a:r>
              <a:rPr b="0" lang="ru-RU" sz="1800" spc="-1" strike="noStrike">
                <a:solidFill>
                  <a:srgbClr val="ceceef"/>
                </a:solidFill>
                <a:latin typeface="Arial"/>
              </a:rPr>
              <a:t> (4822) 34-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eceef"/>
                </a:solidFill>
                <a:uFillTx/>
                <a:latin typeface="Arial"/>
              </a:rPr>
              <a:t>E-mail:</a:t>
            </a:r>
            <a:r>
              <a:rPr b="0" lang="en-US" sz="1800" spc="-1" strike="noStrike">
                <a:solidFill>
                  <a:srgbClr val="ceceef"/>
                </a:solidFill>
                <a:latin typeface="Arial"/>
              </a:rPr>
              <a:t> ocgsen@tvcom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eceef"/>
                </a:solidFill>
                <a:uFillTx/>
                <a:latin typeface="Arial"/>
              </a:rPr>
              <a:t>Сайт</a:t>
            </a:r>
            <a:r>
              <a:rPr b="1" lang="en-US" sz="1800" spc="-1" strike="noStrike" u="sng">
                <a:solidFill>
                  <a:srgbClr val="ceceef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ceceef"/>
                </a:solidFill>
                <a:latin typeface="Arial"/>
              </a:rPr>
              <a:t> http://</a:t>
            </a:r>
            <a:r>
              <a:rPr b="0" lang="ru-RU" sz="1800" spc="-1" strike="noStrike">
                <a:solidFill>
                  <a:srgbClr val="ceceef"/>
                </a:solidFill>
                <a:latin typeface="Arial"/>
              </a:rPr>
              <a:t>69</a:t>
            </a:r>
            <a:r>
              <a:rPr b="0" lang="en-US" sz="1800" spc="-1" strike="noStrike">
                <a:solidFill>
                  <a:srgbClr val="ceceef"/>
                </a:solidFill>
                <a:latin typeface="Arial"/>
              </a:rPr>
              <a:t>.rospotrebnadzor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www.rpn-tver.ru/images/rpn-russia-flag.jpg"/>
          <p:cNvPicPr/>
          <p:nvPr/>
        </p:nvPicPr>
        <p:blipFill>
          <a:blip r:embed="rId1"/>
          <a:stretch/>
        </p:blipFill>
        <p:spPr>
          <a:xfrm>
            <a:off x="0" y="0"/>
            <a:ext cx="2000160" cy="1047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8005680" y="0"/>
            <a:ext cx="1138320" cy="1301760"/>
          </a:xfrm>
          <a:prstGeom prst="rect">
            <a:avLst/>
          </a:prstGeom>
          <a:ln w="0">
            <a:noFill/>
          </a:ln>
        </p:spPr>
      </p:pic>
      <p:pic>
        <p:nvPicPr>
          <p:cNvPr id="141" name="DefaultOcx" descr=""/>
          <p:cNvPicPr/>
          <p:nvPr/>
        </p:nvPicPr>
        <p:blipFill>
          <a:blip r:embed="rId3"/>
          <a:stretch/>
        </p:blipFill>
        <p:spPr>
          <a:xfrm>
            <a:off x="6480" y="4933800"/>
            <a:ext cx="2520720" cy="19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собенность продуктового набора Твер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9A42-7464-429F-A17E-9104CEBE7B6A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42920" y="2500200"/>
            <a:ext cx="45003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Мясо и мясопродукты – 12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Молоко и молочнокислая продукция – 1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Яйцо – 15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Рыба – 11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Овощи – 30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Фрукты и ягоды – 63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786200" y="2500200"/>
            <a:ext cx="45007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Картофель – 128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Хлебобулочные и кондитерские изделия – 113%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79280" y="142884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95200" y="1671480"/>
            <a:ext cx="391968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</a:rPr>
              <a:t>ДЕФИЦИТ ПОТРЕБЛЕНИЯ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786200" y="1671480"/>
            <a:ext cx="400068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</a:rPr>
              <a:t>ИЗБЫТОК ПОТРЕБЛЕНИЯ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Соотношение основных пищевых веществ (Б:Ж: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D33-5351-472E-9B7B-AD78013AC4E6}" type="slidenum">
              <a:rPr b="0" lang="en-US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2362320" y="1714680"/>
            <a:ext cx="1224000" cy="1404720"/>
          </a:xfrm>
          <a:prstGeom prst="line">
            <a:avLst/>
          </a:prstGeom>
          <a:ln w="127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435640" y="1714680"/>
            <a:ext cx="1103400" cy="1338120"/>
          </a:xfrm>
          <a:prstGeom prst="line">
            <a:avLst/>
          </a:prstGeom>
          <a:ln w="127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28760" y="3429000"/>
            <a:ext cx="3786120" cy="18543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45"/>
                </a:solidFill>
                <a:latin typeface="Times New Roman"/>
              </a:rPr>
              <a:t>НОРМА: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45"/>
                </a:solidFill>
                <a:latin typeface="Times New Roman"/>
              </a:rPr>
              <a:t>1:1:4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929120" y="3429000"/>
            <a:ext cx="3562560" cy="18543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45"/>
                </a:solidFill>
                <a:latin typeface="Times New Roman"/>
              </a:rPr>
              <a:t>СОСТАВЛЯЕТ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45"/>
                </a:solidFill>
                <a:latin typeface="Times New Roman"/>
              </a:rPr>
              <a:t>1:1,1:4,7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D7E-6022-4A7C-B1E2-8E4D346D6CFA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Дефицит витаминов и минераль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952280"/>
            <a:ext cx="8640720" cy="411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452520" indent="-276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Витамин С – 6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Витамин А – 47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Витамины группы В – 34-39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Витамин РР –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Витамин Е – 2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Кальций, фосфор – 20-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276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Йод – 7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8388360" y="5797440"/>
            <a:ext cx="7556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179280" y="164304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Динамика заболеваемости детей Тверской области за 2000-200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г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4D4D-EF0F-49E5-9F9C-319DB645202A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500040" y="1785960"/>
          <a:ext cx="805500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785960"/>
                    <a:ext cx="805500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Структура заболеваемости детей Тверской области в 200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0591-9189-4C02-A6BC-C6B76A49AB9F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7" name="Object 1"/>
          <p:cNvGraphicFramePr/>
          <p:nvPr/>
        </p:nvGraphicFramePr>
        <p:xfrm>
          <a:off x="357120" y="1571760"/>
          <a:ext cx="836460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71760"/>
                    <a:ext cx="83646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4495680"/>
            <a:ext cx="8812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42600" y="3500280"/>
            <a:ext cx="7929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В Тверской области ожирение у детей от 0 до 14 лет составляет 494 случая, а у подростков – 667,5 случаев на 100 тыс. детского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28" descr="014"/>
          <p:cNvPicPr/>
          <p:nvPr/>
        </p:nvPicPr>
        <p:blipFill>
          <a:blip r:embed="rId1"/>
          <a:stretch/>
        </p:blipFill>
        <p:spPr>
          <a:xfrm>
            <a:off x="0" y="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29" descr="img_31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30" descr="748160024"/>
          <p:cNvPicPr/>
          <p:nvPr/>
        </p:nvPicPr>
        <p:blipFill>
          <a:blip r:embed="rId3"/>
          <a:stretch/>
        </p:blipFill>
        <p:spPr>
          <a:xfrm>
            <a:off x="2971800" y="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32"/>
          <p:cNvSpPr/>
          <p:nvPr/>
        </p:nvSpPr>
        <p:spPr>
          <a:xfrm>
            <a:off x="8388360" y="5791320"/>
            <a:ext cx="755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17BC-DD6D-428B-B443-534463135088}" type="slidenum"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ыполнение натуральных норм питания детей, посещающих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D904-FE38-43B9-88E6-6A978E2BE626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42920" y="2500200"/>
            <a:ext cx="45003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Мясо и мясопродукты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Молоко и молочнокислая продукция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Овощи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Фрукты и ягоды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786200" y="2500200"/>
            <a:ext cx="45007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Макаронные изделия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Крупы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Кондитерские изделия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179280" y="142884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95200" y="1671480"/>
            <a:ext cx="391968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</a:rPr>
              <a:t>НА 97-100%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786200" y="1671480"/>
            <a:ext cx="400068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45"/>
                </a:solidFill>
                <a:latin typeface="Times New Roman"/>
              </a:rPr>
              <a:t>НА 103-107%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493F-0778-4F3A-9366-1085C2CEC650}" type="slidenum">
              <a:rPr b="0" lang="ru-RU" sz="28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369360"/>
            <a:ext cx="878508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атериально-техническое состояние пищеблоков школ 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680" y="2122560"/>
            <a:ext cx="811512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ребует капитального ремонта - 29 школ (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е имеют централизованного водоснабжения – 125 школ (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е имеют централизованного горячего водоснабжения – 371 школа (5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79280" y="1428840"/>
            <a:ext cx="89154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2:54:35Z</dcterms:created>
  <dc:creator>Ludmila</dc:creator>
  <dc:description/>
  <dc:language>en-US</dc:language>
  <cp:lastModifiedBy>Sinoda</cp:lastModifiedBy>
  <dcterms:modified xsi:type="dcterms:W3CDTF">2009-06-08T13:42:55Z</dcterms:modified>
  <cp:revision>170</cp:revision>
  <dc:subject/>
  <dc:title>Слайд 1</dc:title>
</cp:coreProperties>
</file>